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8.jpeg" ContentType="image/jpeg"/>
  <Override PartName="/ppt/media/image15.gif" ContentType="image/gif"/>
  <Override PartName="/ppt/media/image5.jpeg" ContentType="image/jpeg"/>
  <Override PartName="/ppt/media/image1.png" ContentType="image/png"/>
  <Override PartName="/ppt/media/image29.wmf" ContentType="image/x-wmf"/>
  <Override PartName="/ppt/media/image13.wmf" ContentType="image/x-wmf"/>
  <Override PartName="/ppt/media/image32.wmf" ContentType="image/x-wmf"/>
  <Override PartName="/ppt/media/image10.png" ContentType="image/png"/>
  <Override PartName="/ppt/media/image6.jpeg" ContentType="image/jpeg"/>
  <Override PartName="/ppt/media/image33.wmf" ContentType="image/x-wmf"/>
  <Override PartName="/ppt/media/image3.jpeg" ContentType="image/jpeg"/>
  <Override PartName="/ppt/media/image37.jpeg" ContentType="image/jpeg"/>
  <Override PartName="/ppt/media/image34.wmf" ContentType="image/x-wmf"/>
  <Override PartName="/ppt/media/image36.wmf" ContentType="image/x-wmf"/>
  <Override PartName="/ppt/media/image31.jpeg" ContentType="image/jpeg"/>
  <Override PartName="/ppt/media/image19.jpeg" ContentType="image/jpeg"/>
  <Override PartName="/ppt/media/image25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png" ContentType="image/png"/>
  <Override PartName="/ppt/media/image12.wmf" ContentType="image/x-wmf"/>
  <Override PartName="/ppt/media/image27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2.jpeg" ContentType="image/jpeg"/>
  <Override PartName="/ppt/media/image42.png" ContentType="image/pn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Table 8"/>
          <p:cNvGrpSpPr/>
          <p:nvPr/>
        </p:nvGrpSpPr>
        <p:grpSpPr>
          <a:xfrm>
            <a:off x="330120" y="9381960"/>
            <a:ext cx="6067440" cy="709920"/>
            <a:chOff x="330120" y="9381960"/>
            <a:chExt cx="6067440" cy="709920"/>
          </a:xfrm>
        </p:grpSpPr>
        <p:sp>
          <p:nvSpPr>
            <p:cNvPr id="366" name=""/>
            <p:cNvSpPr/>
            <p:nvPr/>
          </p:nvSpPr>
          <p:spPr>
            <a:xfrm>
              <a:off x="330120" y="9381960"/>
              <a:ext cx="57214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, School of Computing, Engineering &amp; Information Sciences, 2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51600" y="9381960"/>
              <a:ext cx="3459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0120" y="9381960"/>
              <a:ext cx="606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77440" y="818640"/>
            <a:ext cx="2482920" cy="186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Table 7"/>
          <p:cNvGrpSpPr/>
          <p:nvPr/>
        </p:nvGrpSpPr>
        <p:grpSpPr>
          <a:xfrm>
            <a:off x="401760" y="193680"/>
            <a:ext cx="5922720" cy="404640"/>
            <a:chOff x="401760" y="193680"/>
            <a:chExt cx="5922720" cy="404640"/>
          </a:xfrm>
        </p:grpSpPr>
        <p:sp>
          <p:nvSpPr>
            <p:cNvPr id="372" name=""/>
            <p:cNvSpPr/>
            <p:nvPr/>
          </p:nvSpPr>
          <p:spPr>
            <a:xfrm>
              <a:off x="401760" y="193680"/>
              <a:ext cx="592272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Session 1. Introduction to Research Data 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760" y="598320"/>
              <a:ext cx="592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Slide Number Placeholder 6"/>
          <p:cNvSpPr/>
          <p:nvPr/>
        </p:nvSpPr>
        <p:spPr>
          <a:xfrm>
            <a:off x="5948280" y="9428040"/>
            <a:ext cx="495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C75B-E0E6-445C-8B41-BAEA8735C2C0}" type="slidenum">
              <a:rPr b="0" lang="en-US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577800" y="820800"/>
            <a:ext cx="2482920" cy="18619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2852640"/>
            <a:ext cx="543888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64C8-3445-473E-9394-6F1D757187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6144-8E66-414E-AFC9-BA1BF0FC37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7F15-9525-43C2-AD0E-8D0C15A2E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AECE-51A5-4CD1-A8EC-8C130D9F9C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7E72-0EC3-476E-9F4D-E68B762DF3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2C20-F6E4-4170-AACF-3BF4F29C09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694D-1D97-4D90-96F7-74F6FCF86F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DB3E-BB27-41FF-ACBD-1AA695E593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8F81-483C-425B-9BA8-D841A0A1FD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8801-C1EF-4A01-9C94-E35C0B6E53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A0E5-B6D2-4DDE-A7EF-12272F2191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4397-9434-417D-AFF6-3C37CDD93C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B32-921E-4790-B5DB-FD4071F320A8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1BD-5386-41A4-BB3D-B9CF5903E565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F09-3BDB-405B-930F-80A6E7D3673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FF1-3A22-407B-9E14-16B9CE27E3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A4EC-091D-4082-B7BE-EF6A0C907DBB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D65-06AF-4FEC-B368-0A7CC6A2DA3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149D-285F-424D-9E04-14705955027B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0B62-5F84-4912-A7B4-57734A4BCE58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4A9E-A507-4542-99E3-3D6248AD103D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flantoons.btinternet.co.uk/%0Bbusiness/security.html" TargetMode="External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orthumbria.ac.uk/browse/ne/uninews/datamanagement?view=Standard&amp;news=archive" TargetMode="External"/><Relationship Id="rId2" Type="http://schemas.openxmlformats.org/officeDocument/2006/relationships/hyperlink" Target="http://www.northumbria.ac.uk/browse/ne/uninews/datamanagement?view=Standard&amp;news=archive" TargetMode="External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ata-archive.ac.uk/create-manage/life-cycl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cc.ac.uk/dmponline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orthumbria.ac.uk/datum" TargetMode="External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6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roduction to Research Data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8" descr="Docs-Presentations-WG10-MRC"/>
          <p:cNvPicPr/>
          <p:nvPr/>
        </p:nvPicPr>
        <p:blipFill>
          <a:blip r:embed="rId1"/>
          <a:stretch/>
        </p:blipFill>
        <p:spPr>
          <a:xfrm>
            <a:off x="6012000" y="2349360"/>
            <a:ext cx="2022480" cy="900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wellcome trust logo.jpg"/>
          <p:cNvPicPr/>
          <p:nvPr/>
        </p:nvPicPr>
        <p:blipFill>
          <a:blip r:embed="rId2"/>
          <a:stretch/>
        </p:blipFill>
        <p:spPr>
          <a:xfrm>
            <a:off x="3851280" y="3141720"/>
            <a:ext cx="2016000" cy="534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250x86_unnlogo_trans.gif"/>
          <p:cNvPicPr/>
          <p:nvPr/>
        </p:nvPicPr>
        <p:blipFill>
          <a:blip r:embed="rId3"/>
          <a:stretch/>
        </p:blipFill>
        <p:spPr>
          <a:xfrm>
            <a:off x="5364000" y="3645000"/>
            <a:ext cx="30355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6" descr="C:\Users\iljm1\AppData\Local\Microsoft\Windows\Temporary Internet Files\Content.IE5\JCMSNADZ\MC900383560[1].wmf"/>
          <p:cNvPicPr/>
          <p:nvPr/>
        </p:nvPicPr>
        <p:blipFill>
          <a:blip r:embed="rId1"/>
          <a:stretch/>
        </p:blipFill>
        <p:spPr>
          <a:xfrm>
            <a:off x="4859280" y="1989000"/>
            <a:ext cx="25797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6"/>
          <p:cNvGrpSpPr/>
          <p:nvPr/>
        </p:nvGrpSpPr>
        <p:grpSpPr>
          <a:xfrm>
            <a:off x="4381560" y="1928880"/>
            <a:ext cx="3581280" cy="3841200"/>
            <a:chOff x="4381560" y="1928880"/>
            <a:chExt cx="3581280" cy="3841200"/>
          </a:xfrm>
        </p:grpSpPr>
        <p:pic>
          <p:nvPicPr>
            <p:cNvPr id="443" name="Picture 5" descr="security flantoon"/>
            <p:cNvPicPr/>
            <p:nvPr/>
          </p:nvPicPr>
          <p:blipFill>
            <a:blip r:embed="rId1"/>
            <a:stretch/>
          </p:blipFill>
          <p:spPr>
            <a:xfrm>
              <a:off x="4429080" y="1928880"/>
              <a:ext cx="3505320" cy="28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6"/>
            <p:cNvSpPr/>
            <p:nvPr/>
          </p:nvSpPr>
          <p:spPr>
            <a:xfrm>
              <a:off x="4381560" y="4853160"/>
              <a:ext cx="35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urtesy of Mike Flanagan </a:t>
              </a:r>
              <a:r>
                <a:rPr b="0" lang="en-GB" sz="1800" spc="-1" strike="noStrike" u="sng">
                  <a:solidFill>
                    <a:srgbClr val="0f6fc6"/>
                  </a:solidFill>
                  <a:uFillTx/>
                  <a:latin typeface="Arial"/>
                  <a:hlinkClick r:id="rId2"/>
                </a:rPr>
                <a:t>www.flantoons.btinternet.co.uk/_x000b_business/security.htm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Post Process Delphi Outputs - RM Principles 2009.02.19.jpg"/>
          <p:cNvPicPr/>
          <p:nvPr/>
        </p:nvPicPr>
        <p:blipFill>
          <a:blip r:embed="rId1"/>
          <a:stretch/>
        </p:blipFill>
        <p:spPr>
          <a:xfrm rot="21269400">
            <a:off x="4040280" y="1922400"/>
            <a:ext cx="1752480" cy="2500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C:\Users\iljm1\AppData\Local\Microsoft\Windows\Temporary Internet Files\Content.IE5\ZYK4T5IZ\MC900445506[1].wmf"/>
          <p:cNvPicPr/>
          <p:nvPr/>
        </p:nvPicPr>
        <p:blipFill>
          <a:blip r:embed="rId2"/>
          <a:stretch/>
        </p:blipFill>
        <p:spPr>
          <a:xfrm rot="1068600">
            <a:off x="6124680" y="2254320"/>
            <a:ext cx="1971720" cy="15177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C:\Users\iljm1\AppData\Local\Microsoft\Windows\Temporary Internet Files\Content.IE5\E3FLBHWN\MC900048279[1].wmf"/>
          <p:cNvPicPr/>
          <p:nvPr/>
        </p:nvPicPr>
        <p:blipFill>
          <a:blip r:embed="rId3"/>
          <a:stretch/>
        </p:blipFill>
        <p:spPr>
          <a:xfrm>
            <a:off x="6443640" y="4221000"/>
            <a:ext cx="1544760" cy="1771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C:\Users\iljm1\AppData\Local\Microsoft\Windows\Temporary Internet Files\Content.IE5\ZYK4T5IZ\MC900012879[1].wmf"/>
          <p:cNvPicPr/>
          <p:nvPr/>
        </p:nvPicPr>
        <p:blipFill>
          <a:blip r:embed="rId4"/>
          <a:stretch/>
        </p:blipFill>
        <p:spPr>
          <a:xfrm rot="20356200">
            <a:off x="4065480" y="4176720"/>
            <a:ext cx="24926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563640" y="189000"/>
            <a:ext cx="511164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rtion of the original map created by Dr. John Snow  </a:t>
            </a:r>
            <a:br>
              <a:rPr sz="1600"/>
            </a:br>
            <a:r>
              <a:rPr b="0" lang="en-US" sz="1600" spc="-1" strike="noStrike" u="sng">
                <a:solidFill>
                  <a:srgbClr val="0f6fc6"/>
                </a:solidFill>
                <a:uFillTx/>
                <a:latin typeface="Arial"/>
                <a:ea typeface="Arial"/>
              </a:rPr>
              <a:t>www.csiss.org/classics/content/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{Google mash up of data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 John Snow’s  location of cholera infections in London,(1840s) by addr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rtesy: Ed Parsons, Google Europ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C:\Users\iljm1\AppData\Local\Microsoft\Windows\Temporary Internet Files\Content.IE5\JCMSNADZ\MC900078818[1].wmf"/>
          <p:cNvPicPr/>
          <p:nvPr/>
        </p:nvPicPr>
        <p:blipFill>
          <a:blip r:embed="rId1"/>
          <a:stretch/>
        </p:blipFill>
        <p:spPr>
          <a:xfrm>
            <a:off x="3708360" y="170028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C:\Users\iljm1\AppData\Local\Microsoft\Windows\Temporary Internet Files\Content.IE5\DHCAIX93\MC900250469[1].wmf"/>
          <p:cNvPicPr/>
          <p:nvPr/>
        </p:nvPicPr>
        <p:blipFill>
          <a:blip r:embed="rId2"/>
          <a:stretch/>
        </p:blipFill>
        <p:spPr>
          <a:xfrm>
            <a:off x="6875640" y="2565360"/>
            <a:ext cx="1463400" cy="147168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0"/>
          <p:cNvGrpSpPr/>
          <p:nvPr/>
        </p:nvGrpSpPr>
        <p:grpSpPr>
          <a:xfrm>
            <a:off x="3419640" y="4653000"/>
            <a:ext cx="5184720" cy="580680"/>
            <a:chOff x="3419640" y="4653000"/>
            <a:chExt cx="5184720" cy="580680"/>
          </a:xfrm>
        </p:grpSpPr>
        <p:sp>
          <p:nvSpPr>
            <p:cNvPr id="464" name="Action Button: Movie 7"/>
            <p:cNvSpPr/>
            <p:nvPr/>
          </p:nvSpPr>
          <p:spPr>
            <a:xfrm>
              <a:off x="3419640" y="4797360"/>
              <a:ext cx="685800" cy="432000"/>
            </a:xfrm>
            <a:custGeom>
              <a:avLst/>
              <a:gdLst>
                <a:gd name="textAreaLeft" fmla="*/ 27720 w 685800"/>
                <a:gd name="textAreaRight" fmla="*/ 658080 w 68580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4279" h="21600">
                  <a:moveTo>
                    <a:pt x="0" y="0"/>
                  </a:moveTo>
                  <a:lnTo>
                    <a:pt x="34279" y="0"/>
                  </a:lnTo>
                  <a:lnTo>
                    <a:pt x="34279" y="21600"/>
                  </a:lnTo>
                  <a:lnTo>
                    <a:pt x="0" y="21600"/>
                  </a:lnTo>
                  <a:close/>
                </a:path>
                <a:path fill="lightenLess" w="34279" h="21600">
                  <a:moveTo>
                    <a:pt x="0" y="0"/>
                  </a:moveTo>
                  <a:lnTo>
                    <a:pt x="34279" y="0"/>
                  </a:lnTo>
                  <a:lnTo>
                    <a:pt x="32879" y="1400"/>
                  </a:lnTo>
                  <a:lnTo>
                    <a:pt x="1400" y="1400"/>
                  </a:lnTo>
                  <a:close/>
                </a:path>
                <a:path fill="darken" w="34279" h="21600">
                  <a:moveTo>
                    <a:pt x="34279" y="0"/>
                  </a:moveTo>
                  <a:lnTo>
                    <a:pt x="34279" y="21600"/>
                  </a:lnTo>
                  <a:lnTo>
                    <a:pt x="32879" y="20200"/>
                  </a:lnTo>
                  <a:lnTo>
                    <a:pt x="32879" y="1400"/>
                  </a:lnTo>
                  <a:close/>
                </a:path>
                <a:path fill="darkenLess" w="34279" h="21600">
                  <a:moveTo>
                    <a:pt x="3427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879" y="20200"/>
                  </a:lnTo>
                  <a:close/>
                </a:path>
                <a:path fill="lighten" w="3427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4279" h="21600">
                  <a:moveTo>
                    <a:pt x="10133" y="7301"/>
                  </a:moveTo>
                  <a:lnTo>
                    <a:pt x="11047" y="7301"/>
                  </a:lnTo>
                  <a:lnTo>
                    <a:pt x="11430" y="7667"/>
                  </a:lnTo>
                  <a:lnTo>
                    <a:pt x="20639" y="7667"/>
                  </a:lnTo>
                  <a:lnTo>
                    <a:pt x="21196" y="8224"/>
                  </a:lnTo>
                  <a:lnTo>
                    <a:pt x="21196" y="8772"/>
                  </a:lnTo>
                  <a:lnTo>
                    <a:pt x="23041" y="8772"/>
                  </a:lnTo>
                  <a:lnTo>
                    <a:pt x="23406" y="8224"/>
                  </a:lnTo>
                  <a:lnTo>
                    <a:pt x="24146" y="8224"/>
                  </a:lnTo>
                  <a:lnTo>
                    <a:pt x="24146" y="13376"/>
                  </a:lnTo>
                  <a:lnTo>
                    <a:pt x="23406" y="13376"/>
                  </a:lnTo>
                  <a:lnTo>
                    <a:pt x="23041" y="12828"/>
                  </a:lnTo>
                  <a:lnTo>
                    <a:pt x="21196" y="12828"/>
                  </a:lnTo>
                  <a:lnTo>
                    <a:pt x="21196" y="14107"/>
                  </a:lnTo>
                  <a:lnTo>
                    <a:pt x="11613" y="14107"/>
                  </a:lnTo>
                  <a:lnTo>
                    <a:pt x="11613" y="9877"/>
                  </a:lnTo>
                  <a:lnTo>
                    <a:pt x="11430" y="9877"/>
                  </a:lnTo>
                  <a:lnTo>
                    <a:pt x="11047" y="10243"/>
                  </a:lnTo>
                  <a:lnTo>
                    <a:pt x="10133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9"/>
            <p:cNvSpPr/>
            <p:nvPr/>
          </p:nvSpPr>
          <p:spPr>
            <a:xfrm>
              <a:off x="4061880" y="4653000"/>
              <a:ext cx="454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ephen Gra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‘Why should researchers share their data?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3419640" y="5373720"/>
            <a:ext cx="5724360" cy="580680"/>
            <a:chOff x="3419640" y="5373720"/>
            <a:chExt cx="5724360" cy="580680"/>
          </a:xfrm>
        </p:grpSpPr>
        <p:sp>
          <p:nvSpPr>
            <p:cNvPr id="467" name="Action Button: Movie 12"/>
            <p:cNvSpPr/>
            <p:nvPr/>
          </p:nvSpPr>
          <p:spPr>
            <a:xfrm>
              <a:off x="3419640" y="5518080"/>
              <a:ext cx="722160" cy="432000"/>
            </a:xfrm>
            <a:custGeom>
              <a:avLst/>
              <a:gdLst>
                <a:gd name="textAreaLeft" fmla="*/ 27720 w 722160"/>
                <a:gd name="textAreaRight" fmla="*/ 694440 w 72216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36096" h="21600">
                  <a:moveTo>
                    <a:pt x="0" y="0"/>
                  </a:moveTo>
                  <a:lnTo>
                    <a:pt x="36096" y="0"/>
                  </a:lnTo>
                  <a:lnTo>
                    <a:pt x="36096" y="21600"/>
                  </a:lnTo>
                  <a:lnTo>
                    <a:pt x="0" y="21600"/>
                  </a:lnTo>
                  <a:close/>
                </a:path>
                <a:path fill="lightenLess" w="36096" h="21600">
                  <a:moveTo>
                    <a:pt x="0" y="0"/>
                  </a:moveTo>
                  <a:lnTo>
                    <a:pt x="36096" y="0"/>
                  </a:lnTo>
                  <a:lnTo>
                    <a:pt x="34696" y="1400"/>
                  </a:lnTo>
                  <a:lnTo>
                    <a:pt x="1400" y="1400"/>
                  </a:lnTo>
                  <a:close/>
                </a:path>
                <a:path fill="darken" w="36096" h="21600">
                  <a:moveTo>
                    <a:pt x="36096" y="0"/>
                  </a:moveTo>
                  <a:lnTo>
                    <a:pt x="36096" y="21600"/>
                  </a:lnTo>
                  <a:lnTo>
                    <a:pt x="34696" y="20200"/>
                  </a:lnTo>
                  <a:lnTo>
                    <a:pt x="34696" y="1400"/>
                  </a:lnTo>
                  <a:close/>
                </a:path>
                <a:path fill="darkenLess" w="36096" h="21600">
                  <a:moveTo>
                    <a:pt x="360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696" y="20200"/>
                  </a:lnTo>
                  <a:close/>
                </a:path>
                <a:path fill="lighten" w="360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6096" h="21600">
                  <a:moveTo>
                    <a:pt x="11041" y="7301"/>
                  </a:moveTo>
                  <a:lnTo>
                    <a:pt x="11955" y="7301"/>
                  </a:lnTo>
                  <a:lnTo>
                    <a:pt x="12338" y="7667"/>
                  </a:lnTo>
                  <a:lnTo>
                    <a:pt x="21547" y="7667"/>
                  </a:lnTo>
                  <a:lnTo>
                    <a:pt x="22104" y="8224"/>
                  </a:lnTo>
                  <a:lnTo>
                    <a:pt x="22104" y="8772"/>
                  </a:lnTo>
                  <a:lnTo>
                    <a:pt x="23949" y="8772"/>
                  </a:lnTo>
                  <a:lnTo>
                    <a:pt x="24315" y="8224"/>
                  </a:lnTo>
                  <a:lnTo>
                    <a:pt x="25054" y="8224"/>
                  </a:lnTo>
                  <a:lnTo>
                    <a:pt x="25054" y="13376"/>
                  </a:lnTo>
                  <a:lnTo>
                    <a:pt x="24315" y="13376"/>
                  </a:lnTo>
                  <a:lnTo>
                    <a:pt x="23949" y="12828"/>
                  </a:lnTo>
                  <a:lnTo>
                    <a:pt x="22104" y="12828"/>
                  </a:lnTo>
                  <a:lnTo>
                    <a:pt x="22104" y="14107"/>
                  </a:lnTo>
                  <a:lnTo>
                    <a:pt x="12521" y="14107"/>
                  </a:lnTo>
                  <a:lnTo>
                    <a:pt x="12521" y="9877"/>
                  </a:lnTo>
                  <a:lnTo>
                    <a:pt x="12338" y="9877"/>
                  </a:lnTo>
                  <a:lnTo>
                    <a:pt x="11955" y="10243"/>
                  </a:lnTo>
                  <a:lnTo>
                    <a:pt x="11041" y="10243"/>
                  </a:lnTo>
                  <a:close/>
                </a:path>
              </a:pathLst>
            </a:custGeom>
            <a:solidFill>
              <a:srgbClr val="0f6fc6"/>
            </a:solidFill>
            <a:ln w="25560">
              <a:solidFill>
                <a:srgbClr val="c8e3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13"/>
            <p:cNvSpPr/>
            <p:nvPr/>
          </p:nvSpPr>
          <p:spPr>
            <a:xfrm>
              <a:off x="4095720" y="5373720"/>
              <a:ext cx="504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anar Haddad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‘Tips for using YouTube in research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AutoShape 1028"/>
          <p:cNvSpPr/>
          <p:nvPr/>
        </p:nvSpPr>
        <p:spPr>
          <a:xfrm>
            <a:off x="3714840" y="2214720"/>
            <a:ext cx="4952880" cy="1523880"/>
          </a:xfrm>
          <a:prstGeom prst="wedgeRoundRectCallout">
            <a:avLst>
              <a:gd name="adj1" fmla="val -36708"/>
              <a:gd name="adj2" fmla="val 6856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gital information lasts forever - or five years, whichever comes first” 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Jeff Rothenberg, 1995</a:t>
            </a:r>
            <a:r>
              <a:rPr b="0" lang="en-GB" sz="2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2843640" y="1844640"/>
            <a:ext cx="5867640" cy="4056120"/>
            <a:chOff x="2843640" y="1844640"/>
            <a:chExt cx="5867640" cy="4056120"/>
          </a:xfrm>
        </p:grpSpPr>
        <p:pic>
          <p:nvPicPr>
            <p:cNvPr id="477" name="Picture 1" descr=""/>
            <p:cNvPicPr/>
            <p:nvPr/>
          </p:nvPicPr>
          <p:blipFill>
            <a:blip r:embed="rId1"/>
            <a:srcRect l="0" t="13345" r="0" b="13458"/>
            <a:stretch/>
          </p:blipFill>
          <p:spPr>
            <a:xfrm rot="1969200">
              <a:off x="2766960" y="2639880"/>
              <a:ext cx="2925720" cy="4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"/>
            <p:cNvPicPr/>
            <p:nvPr/>
          </p:nvPicPr>
          <p:blipFill>
            <a:blip r:embed="rId2"/>
            <a:stretch/>
          </p:blipFill>
          <p:spPr>
            <a:xfrm rot="1969200">
              <a:off x="2604240" y="363672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3" descr=""/>
            <p:cNvPicPr/>
            <p:nvPr/>
          </p:nvPicPr>
          <p:blipFill>
            <a:blip r:embed="rId3"/>
            <a:stretch/>
          </p:blipFill>
          <p:spPr>
            <a:xfrm rot="1969200">
              <a:off x="2325600" y="4069080"/>
              <a:ext cx="662472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Rectangle 4"/>
            <p:cNvSpPr/>
            <p:nvPr/>
          </p:nvSpPr>
          <p:spPr>
            <a:xfrm rot="1969200">
              <a:off x="5124600" y="4574520"/>
              <a:ext cx="36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808080"/>
                  </a:solidFill>
                  <a:latin typeface="Arial"/>
                </a:rPr>
                <a:t>Because good research needs good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9"/>
          <p:cNvSpPr/>
          <p:nvPr/>
        </p:nvSpPr>
        <p:spPr>
          <a:xfrm>
            <a:off x="1835280" y="4797360"/>
            <a:ext cx="5329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 Andrew Wakefield et al. (1998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eal-lymphoid-nodular hyperplasia, non-specific colitis, and pervasive developmental disorder in children,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Lanc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Vol 351 No 9103, pp. 637-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0"/>
          <p:cNvSpPr/>
          <p:nvPr/>
        </p:nvSpPr>
        <p:spPr>
          <a:xfrm>
            <a:off x="5219640" y="1844640"/>
            <a:ext cx="3456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r Cyril Burt (1883-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ritability of intelligence as measured in IQ tests with t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563640" y="2599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ata management is essential to excellence in research”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essor Charlotte Clarke, Associate Dean for Research, School of Health, Community and Education Stud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art from the benefits for research, good data management is vital for many reasons: accountability, security, appropriate data-sharing, re-use protocols and preservation for example”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f Julie McLeod, School of Computing, Engineering &amp; Information Sci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 </a:t>
            </a:r>
            <a:r>
              <a:rPr b="0" lang="en-GB" sz="1400" spc="-1" strike="noStrike" u="sng">
                <a:solidFill>
                  <a:srgbClr val="0f6fc6"/>
                </a:solidFill>
                <a:uFillTx/>
                <a:latin typeface="Calibri"/>
                <a:hlinkClick r:id="rId2"/>
              </a:rPr>
              <a:t>www.northumbria.ac.uk/browse/ne/uninews/datamanagement?view=Standard&amp;news=archiv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requir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work effectively &amp; efficient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protect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use and/or re-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har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preserv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ecause it is good research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rodu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&amp; content of the s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 to R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uration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spcBef>
                <a:spcPts val="700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s and practical strategies a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on the eLP / ema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489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 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494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499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04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09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14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20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5"/>
          <p:cNvSpPr/>
          <p:nvPr/>
        </p:nvSpPr>
        <p:spPr>
          <a:xfrm>
            <a:off x="3203640" y="558972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 Data Archive</a:t>
            </a:r>
            <a:br>
              <a:rPr sz="1600"/>
            </a:br>
            <a:r>
              <a:rPr b="0" lang="en-GB" sz="1600" spc="-1" strike="noStrike" u="sng">
                <a:solidFill>
                  <a:srgbClr val="0f6fc6"/>
                </a:solidFill>
                <a:uFillTx/>
                <a:latin typeface="Arial"/>
                <a:hlinkClick r:id="rId1"/>
              </a:rPr>
              <a:t>www.data-archive.ac.uk/create-manage/life-cyc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2"/>
          <p:cNvGrpSpPr/>
          <p:nvPr/>
        </p:nvGrpSpPr>
        <p:grpSpPr>
          <a:xfrm>
            <a:off x="4427640" y="1773360"/>
            <a:ext cx="3600360" cy="3671640"/>
            <a:chOff x="4427640" y="1773360"/>
            <a:chExt cx="3600360" cy="3671640"/>
          </a:xfrm>
        </p:grpSpPr>
        <p:pic>
          <p:nvPicPr>
            <p:cNvPr id="527" name="Picture 2" descr=""/>
            <p:cNvPicPr/>
            <p:nvPr/>
          </p:nvPicPr>
          <p:blipFill>
            <a:blip r:embed="rId2"/>
            <a:srcRect l="24508" t="36175" r="31789" b="9194"/>
            <a:stretch/>
          </p:blipFill>
          <p:spPr>
            <a:xfrm>
              <a:off x="4427640" y="1773360"/>
              <a:ext cx="3600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Rectangle 44"/>
            <p:cNvSpPr/>
            <p:nvPr/>
          </p:nvSpPr>
          <p:spPr>
            <a:xfrm>
              <a:off x="7589880" y="2120760"/>
              <a:ext cx="3412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manage my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3419640" y="1984320"/>
            <a:ext cx="5472000" cy="3901680"/>
            <a:chOff x="3419640" y="1984320"/>
            <a:chExt cx="5472000" cy="3901680"/>
          </a:xfrm>
        </p:grpSpPr>
        <p:sp>
          <p:nvSpPr>
            <p:cNvPr id="534" name="Text Box 3"/>
            <p:cNvSpPr/>
            <p:nvPr/>
          </p:nvSpPr>
          <p:spPr>
            <a:xfrm>
              <a:off x="5321520" y="2000160"/>
              <a:ext cx="21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4"/>
            <p:cNvSpPr/>
            <p:nvPr/>
          </p:nvSpPr>
          <p:spPr>
            <a:xfrm>
              <a:off x="7394040" y="29055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reate/</a:t>
              </a:r>
              <a:br>
                <a:rPr sz="1800"/>
              </a:b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5"/>
            <p:cNvSpPr/>
            <p:nvPr/>
          </p:nvSpPr>
          <p:spPr>
            <a:xfrm>
              <a:off x="7011000" y="4620960"/>
              <a:ext cx="149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analyse &amp;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3499920" y="29055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use / re-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6813720" y="2087280"/>
              <a:ext cx="916920" cy="969840"/>
              <a:chOff x="6813720" y="2087280"/>
              <a:chExt cx="916920" cy="969840"/>
            </a:xfrm>
          </p:grpSpPr>
          <p:sp>
            <p:nvSpPr>
              <p:cNvPr id="539" name="Freeform 8"/>
              <p:cNvSpPr/>
              <p:nvPr/>
            </p:nvSpPr>
            <p:spPr>
              <a:xfrm rot="21003600">
                <a:off x="6861600" y="218016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9"/>
              <p:cNvSpPr/>
              <p:nvPr/>
            </p:nvSpPr>
            <p:spPr>
              <a:xfrm rot="21003600">
                <a:off x="7464240" y="257184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0"/>
              <p:cNvSpPr/>
              <p:nvPr/>
            </p:nvSpPr>
            <p:spPr>
              <a:xfrm rot="21003600">
                <a:off x="7203600" y="277308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1"/>
              <p:cNvSpPr/>
              <p:nvPr/>
            </p:nvSpPr>
            <p:spPr>
              <a:xfrm rot="21003600">
                <a:off x="6876720" y="214776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12"/>
            <p:cNvGrpSpPr/>
            <p:nvPr/>
          </p:nvGrpSpPr>
          <p:grpSpPr>
            <a:xfrm>
              <a:off x="7515000" y="3541320"/>
              <a:ext cx="1086840" cy="1160640"/>
              <a:chOff x="7515000" y="3541320"/>
              <a:chExt cx="1086840" cy="1160640"/>
            </a:xfrm>
          </p:grpSpPr>
          <p:sp>
            <p:nvSpPr>
              <p:cNvPr id="544" name="Freeform 13"/>
              <p:cNvSpPr/>
              <p:nvPr/>
            </p:nvSpPr>
            <p:spPr>
              <a:xfrm rot="3285000">
                <a:off x="7794000" y="362340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4"/>
              <p:cNvSpPr/>
              <p:nvPr/>
            </p:nvSpPr>
            <p:spPr>
              <a:xfrm rot="3285000">
                <a:off x="7884360" y="42915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5"/>
              <p:cNvSpPr/>
              <p:nvPr/>
            </p:nvSpPr>
            <p:spPr>
              <a:xfrm rot="3285000">
                <a:off x="7641720" y="4182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6"/>
              <p:cNvSpPr/>
              <p:nvPr/>
            </p:nvSpPr>
            <p:spPr>
              <a:xfrm rot="3285000">
                <a:off x="7642080" y="372384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7"/>
            <p:cNvGrpSpPr/>
            <p:nvPr/>
          </p:nvGrpSpPr>
          <p:grpSpPr>
            <a:xfrm>
              <a:off x="4692960" y="4629600"/>
              <a:ext cx="1042920" cy="1022400"/>
              <a:chOff x="4692960" y="4629600"/>
              <a:chExt cx="1042920" cy="1022400"/>
            </a:xfrm>
          </p:grpSpPr>
          <p:sp>
            <p:nvSpPr>
              <p:cNvPr id="549" name="Freeform 18"/>
              <p:cNvSpPr/>
              <p:nvPr/>
            </p:nvSpPr>
            <p:spPr>
              <a:xfrm rot="9543000">
                <a:off x="5195880" y="4883400"/>
                <a:ext cx="448200" cy="588960"/>
              </a:xfrm>
              <a:custGeom>
                <a:avLst/>
                <a:gdLst>
                  <a:gd name="textAreaLeft" fmla="*/ 0 w 448200"/>
                  <a:gd name="textAreaRight" fmla="*/ 448560 w 4482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"/>
              <p:cNvSpPr/>
              <p:nvPr/>
            </p:nvSpPr>
            <p:spPr>
              <a:xfrm rot="9543000">
                <a:off x="4760280" y="4759560"/>
                <a:ext cx="231840" cy="4208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"/>
              <p:cNvSpPr/>
              <p:nvPr/>
            </p:nvSpPr>
            <p:spPr>
              <a:xfrm rot="9543000">
                <a:off x="4948200" y="4674240"/>
                <a:ext cx="277200" cy="26208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1"/>
              <p:cNvSpPr/>
              <p:nvPr/>
            </p:nvSpPr>
            <p:spPr>
              <a:xfrm rot="9543000">
                <a:off x="4844160" y="4741200"/>
                <a:ext cx="774360" cy="798480"/>
              </a:xfrm>
              <a:custGeom>
                <a:avLst/>
                <a:gdLst>
                  <a:gd name="textAreaLeft" fmla="*/ 0 w 774360"/>
                  <a:gd name="textAreaRight" fmla="*/ 774720 w 77436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22"/>
            <p:cNvGrpSpPr/>
            <p:nvPr/>
          </p:nvGrpSpPr>
          <p:grpSpPr>
            <a:xfrm>
              <a:off x="5061240" y="1984320"/>
              <a:ext cx="965160" cy="948600"/>
              <a:chOff x="5061240" y="1984320"/>
              <a:chExt cx="965160" cy="948600"/>
            </a:xfrm>
          </p:grpSpPr>
          <p:sp>
            <p:nvSpPr>
              <p:cNvPr id="554" name="Freeform 23"/>
              <p:cNvSpPr/>
              <p:nvPr/>
            </p:nvSpPr>
            <p:spPr>
              <a:xfrm rot="16799400">
                <a:off x="5134320" y="234036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"/>
              <p:cNvSpPr/>
              <p:nvPr/>
            </p:nvSpPr>
            <p:spPr>
              <a:xfrm rot="16799400">
                <a:off x="5686920" y="202176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5"/>
              <p:cNvSpPr/>
              <p:nvPr/>
            </p:nvSpPr>
            <p:spPr>
              <a:xfrm rot="16799400">
                <a:off x="5687280" y="23788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6"/>
              <p:cNvSpPr/>
              <p:nvPr/>
            </p:nvSpPr>
            <p:spPr>
              <a:xfrm rot="16799400">
                <a:off x="5082840" y="20869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27"/>
            <p:cNvGrpSpPr/>
            <p:nvPr/>
          </p:nvGrpSpPr>
          <p:grpSpPr>
            <a:xfrm>
              <a:off x="3965040" y="3189960"/>
              <a:ext cx="1090080" cy="1176480"/>
              <a:chOff x="3965040" y="3189960"/>
              <a:chExt cx="1090080" cy="1176480"/>
            </a:xfrm>
          </p:grpSpPr>
          <p:sp>
            <p:nvSpPr>
              <p:cNvPr id="559" name="Freeform 28"/>
              <p:cNvSpPr/>
              <p:nvPr/>
            </p:nvSpPr>
            <p:spPr>
              <a:xfrm flipH="1" flipV="1" rot="2065200">
                <a:off x="4362120" y="3699360"/>
                <a:ext cx="448200" cy="588960"/>
              </a:xfrm>
              <a:custGeom>
                <a:avLst/>
                <a:gdLst>
                  <a:gd name="textAreaLeft" fmla="*/ -360 w 448200"/>
                  <a:gd name="textAreaRight" fmla="*/ 448200 w 448200"/>
                  <a:gd name="textAreaTop" fmla="*/ 360 h 588960"/>
                  <a:gd name="textAreaBottom" fmla="*/ 589680 h 58896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9"/>
              <p:cNvSpPr/>
              <p:nvPr/>
            </p:nvSpPr>
            <p:spPr>
              <a:xfrm flipH="1" flipV="1" rot="2065200">
                <a:off x="4332600" y="3218400"/>
                <a:ext cx="231840" cy="420840"/>
              </a:xfrm>
              <a:custGeom>
                <a:avLst/>
                <a:gdLst>
                  <a:gd name="textAreaLeft" fmla="*/ 360 w 231840"/>
                  <a:gd name="textAreaRight" fmla="*/ 232560 w 23184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0"/>
              <p:cNvSpPr/>
              <p:nvPr/>
            </p:nvSpPr>
            <p:spPr>
              <a:xfrm flipH="1" flipV="1" rot="2065200">
                <a:off x="4564800" y="3376800"/>
                <a:ext cx="277200" cy="262080"/>
              </a:xfrm>
              <a:custGeom>
                <a:avLst/>
                <a:gdLst>
                  <a:gd name="textAreaLeft" fmla="*/ 360 w 277200"/>
                  <a:gd name="textAreaRight" fmla="*/ 277920 w 277200"/>
                  <a:gd name="textAreaTop" fmla="*/ 360 h 262080"/>
                  <a:gd name="textAreaBottom" fmla="*/ 262800 h 26208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1"/>
              <p:cNvSpPr/>
              <p:nvPr/>
            </p:nvSpPr>
            <p:spPr>
              <a:xfrm flipH="1" flipV="1" rot="2065200">
                <a:off x="4122720" y="3418560"/>
                <a:ext cx="774360" cy="798480"/>
              </a:xfrm>
              <a:custGeom>
                <a:avLst/>
                <a:gdLst>
                  <a:gd name="textAreaLeft" fmla="*/ -360 w 774360"/>
                  <a:gd name="textAreaRight" fmla="*/ 774360 w 774360"/>
                  <a:gd name="textAreaTop" fmla="*/ 360 h 798480"/>
                  <a:gd name="textAreaBottom" fmla="*/ 799200 h 7984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32"/>
            <p:cNvSpPr/>
            <p:nvPr/>
          </p:nvSpPr>
          <p:spPr>
            <a:xfrm>
              <a:off x="5076000" y="551772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preser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7"/>
            <p:cNvGrpSpPr/>
            <p:nvPr/>
          </p:nvGrpSpPr>
          <p:grpSpPr>
            <a:xfrm>
              <a:off x="6430680" y="4783680"/>
              <a:ext cx="988920" cy="969120"/>
              <a:chOff x="6430680" y="4783680"/>
              <a:chExt cx="988920" cy="969120"/>
            </a:xfrm>
          </p:grpSpPr>
          <p:sp>
            <p:nvSpPr>
              <p:cNvPr id="565" name="Freeform 18"/>
              <p:cNvSpPr/>
              <p:nvPr/>
            </p:nvSpPr>
            <p:spPr>
              <a:xfrm rot="6123000">
                <a:off x="6858000" y="4843080"/>
                <a:ext cx="481680" cy="547920"/>
              </a:xfrm>
              <a:custGeom>
                <a:avLst/>
                <a:gdLst>
                  <a:gd name="textAreaLeft" fmla="*/ 0 w 481680"/>
                  <a:gd name="textAreaRight" fmla="*/ 482040 w 48168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9"/>
              <p:cNvSpPr/>
              <p:nvPr/>
            </p:nvSpPr>
            <p:spPr>
              <a:xfrm rot="6123000">
                <a:off x="6523200" y="5301720"/>
                <a:ext cx="249480" cy="39132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0"/>
              <p:cNvSpPr/>
              <p:nvPr/>
            </p:nvSpPr>
            <p:spPr>
              <a:xfrm rot="6123000">
                <a:off x="6484680" y="5091480"/>
                <a:ext cx="298080" cy="2437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1"/>
              <p:cNvSpPr/>
              <p:nvPr/>
            </p:nvSpPr>
            <p:spPr>
              <a:xfrm rot="6123000">
                <a:off x="6553080" y="4896720"/>
                <a:ext cx="832320" cy="742680"/>
              </a:xfrm>
              <a:custGeom>
                <a:avLst/>
                <a:gdLst>
                  <a:gd name="textAreaLeft" fmla="*/ 0 w 832320"/>
                  <a:gd name="textAreaRight" fmla="*/ 832680 w 83232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f6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32"/>
            <p:cNvSpPr/>
            <p:nvPr/>
          </p:nvSpPr>
          <p:spPr>
            <a:xfrm>
              <a:off x="3419640" y="4437360"/>
              <a:ext cx="17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4617b"/>
                  </a:solidFill>
                  <a:latin typeface="Comic Sans MS"/>
                </a:rPr>
                <a:t>sh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Oval 41"/>
          <p:cNvSpPr/>
          <p:nvPr/>
        </p:nvSpPr>
        <p:spPr>
          <a:xfrm>
            <a:off x="5715000" y="1643040"/>
            <a:ext cx="1428840" cy="9288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Management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s about how your research data will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d &amp; capt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ed and preser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ps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o properly manage your data for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use, meet funder needs &amp; enable sha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CC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.dcc.ac.uk/dmpon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imal version – e.g. for use at the IPA / grant application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e version – e.g. developed at the early project st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3126" r="0" b="312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61372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Data Management Plan: DATUM for Health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f6fc6"/>
                </a:solidFill>
                <a:uFillTx/>
                <a:latin typeface="Calibri"/>
                <a:hlinkClick r:id="rId1"/>
              </a:rPr>
              <a:t>www.northumbria.ac.uk/datu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mplified version of the DCC template – for use at  any stage of your Ph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3"/>
          <a:srcRect l="11996" t="20915" r="13288" b="861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ef project  out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DMP for this project based on the information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ine you are the researcher doing this at the start of the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agine it is starting n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 DM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UDG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 about the DMP for this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rcRect l="9189" t="16251" r="10751" b="6644"/>
          <a:stretch/>
        </p:blipFill>
        <p:spPr>
          <a:xfrm>
            <a:off x="539640" y="1773360"/>
            <a:ext cx="4017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786200" y="1600200"/>
            <a:ext cx="41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data management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sues arise in managing research da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ularly in relation to qualitative data in the health studies discip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y /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 funders / la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ent, what to ke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osophical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re-use; secu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&amp; 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on, organisation, storage, retention, protection, preser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55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o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he overall program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I manage my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a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63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nex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63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ed learning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ed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to develop a DMP for your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DATUM for Health templ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review it in Session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a RDM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can researchers ensure that they’ll be able to share, archive or re-use sensitive data?’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uise Corti, UKDA, Essex Universit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lib.cam.ac.uk/dataman/training.html#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why you need to manage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ware of the issues surrounding research data management in the health 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able to complete an initial plan for managing your own research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5" descr="info.JPG"/>
          <p:cNvPicPr/>
          <p:nvPr/>
        </p:nvPicPr>
        <p:blipFill>
          <a:blip r:embed="rId1"/>
          <a:stretch/>
        </p:blipFill>
        <p:spPr>
          <a:xfrm>
            <a:off x="5292720" y="3141720"/>
            <a:ext cx="1332000" cy="133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question.JPG"/>
          <p:cNvPicPr/>
          <p:nvPr/>
        </p:nvPicPr>
        <p:blipFill>
          <a:blip r:embed="rId2"/>
          <a:stretch/>
        </p:blipFill>
        <p:spPr>
          <a:xfrm>
            <a:off x="6516720" y="2349360"/>
            <a:ext cx="1116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30"/>
          <p:cNvGrpSpPr/>
          <p:nvPr/>
        </p:nvGrpSpPr>
        <p:grpSpPr>
          <a:xfrm>
            <a:off x="5292720" y="2349360"/>
            <a:ext cx="2340000" cy="2122560"/>
            <a:chOff x="5292720" y="2349360"/>
            <a:chExt cx="2340000" cy="2122560"/>
          </a:xfrm>
        </p:grpSpPr>
        <p:pic>
          <p:nvPicPr>
            <p:cNvPr id="389" name="Picture 28" descr="info.JPG"/>
            <p:cNvPicPr/>
            <p:nvPr/>
          </p:nvPicPr>
          <p:blipFill>
            <a:blip r:embed="rId1"/>
            <a:stretch/>
          </p:blipFill>
          <p:spPr>
            <a:xfrm>
              <a:off x="5292720" y="3141000"/>
              <a:ext cx="13320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9" descr="question.JPG"/>
            <p:cNvPicPr/>
            <p:nvPr/>
          </p:nvPicPr>
          <p:blipFill>
            <a:blip r:embed="rId2"/>
            <a:stretch/>
          </p:blipFill>
          <p:spPr>
            <a:xfrm>
              <a:off x="6517080" y="2349360"/>
              <a:ext cx="1115640" cy="111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2053" descr="MPj04330780000[1]"/>
          <p:cNvPicPr/>
          <p:nvPr/>
        </p:nvPicPr>
        <p:blipFill>
          <a:blip r:embed="rId3"/>
          <a:stretch/>
        </p:blipFill>
        <p:spPr>
          <a:xfrm>
            <a:off x="2771640" y="4292640"/>
            <a:ext cx="1540080" cy="10191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us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data are you crea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9" descr="pile folders.JPG"/>
          <p:cNvPicPr/>
          <p:nvPr/>
        </p:nvPicPr>
        <p:blipFill>
          <a:blip r:embed="rId4"/>
          <a:srcRect l="0" t="15420" r="0" b="15351"/>
          <a:stretch/>
        </p:blipFill>
        <p:spPr>
          <a:xfrm>
            <a:off x="5219640" y="3141720"/>
            <a:ext cx="1873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051" descr="MPj04309330000[1]"/>
          <p:cNvPicPr/>
          <p:nvPr/>
        </p:nvPicPr>
        <p:blipFill>
          <a:blip r:embed="rId5"/>
          <a:srcRect l="0" t="0" r="0" b="8023"/>
          <a:stretch/>
        </p:blipFill>
        <p:spPr>
          <a:xfrm>
            <a:off x="5940360" y="2205000"/>
            <a:ext cx="170820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Sound"/>
          <p:cNvSpPr/>
          <p:nvPr/>
        </p:nvSpPr>
        <p:spPr>
          <a:xfrm>
            <a:off x="4284720" y="4221000"/>
            <a:ext cx="831960" cy="689040"/>
          </a:xfrm>
          <a:custGeom>
            <a:avLst/>
            <a:gdLst>
              <a:gd name="textAreaLeft" fmla="*/ 29160 w 831960"/>
              <a:gd name="textAreaRight" fmla="*/ 811800 w 831960"/>
              <a:gd name="textAreaTop" fmla="*/ 716400 h 689040"/>
              <a:gd name="textAreaBottom" fmla="*/ 902520 h 68904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C:\Users\iljm1\AppData\Local\Microsoft\Windows\Temporary Internet Files\Content.IE5\ZYK4T5IZ\MC900431570[1].png"/>
          <p:cNvPicPr/>
          <p:nvPr/>
        </p:nvPicPr>
        <p:blipFill>
          <a:blip r:embed="rId6"/>
          <a:stretch/>
        </p:blipFill>
        <p:spPr>
          <a:xfrm>
            <a:off x="7238880" y="3284640"/>
            <a:ext cx="1905120" cy="1917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C:\Users\iljm1\AppData\Local\Microsoft\Windows\Temporary Internet Files\Content.IE5\ZYK4T5IZ\MC900441458[1].png"/>
          <p:cNvPicPr/>
          <p:nvPr/>
        </p:nvPicPr>
        <p:blipFill>
          <a:blip r:embed="rId7"/>
          <a:srcRect l="15330" t="0" r="15684" b="38680"/>
          <a:stretch/>
        </p:blipFill>
        <p:spPr>
          <a:xfrm>
            <a:off x="5580000" y="5373720"/>
            <a:ext cx="971640" cy="863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C:\Users\iljm1\AppData\Local\Microsoft\Windows\Temporary Internet Files\Content.IE5\JCMSNADZ\MP900289550[1].jpg"/>
          <p:cNvPicPr/>
          <p:nvPr/>
        </p:nvPicPr>
        <p:blipFill>
          <a:blip r:embed="rId8"/>
          <a:stretch/>
        </p:blipFill>
        <p:spPr>
          <a:xfrm>
            <a:off x="5364000" y="4365720"/>
            <a:ext cx="15051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3203640" y="3500280"/>
            <a:ext cx="1824120" cy="792360"/>
            <a:chOff x="3203640" y="3500280"/>
            <a:chExt cx="1824120" cy="792360"/>
          </a:xfrm>
        </p:grpSpPr>
        <p:pic>
          <p:nvPicPr>
            <p:cNvPr id="401" name="Picture 2" descr=""/>
            <p:cNvPicPr/>
            <p:nvPr/>
          </p:nvPicPr>
          <p:blipFill>
            <a:blip r:embed="rId9"/>
            <a:srcRect l="20967" t="43554" r="72345" b="49799"/>
            <a:stretch/>
          </p:blipFill>
          <p:spPr>
            <a:xfrm>
              <a:off x="4212000" y="3643920"/>
              <a:ext cx="815760" cy="64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6" descr=""/>
            <p:cNvPicPr/>
            <p:nvPr/>
          </p:nvPicPr>
          <p:blipFill>
            <a:blip r:embed="rId10"/>
            <a:srcRect l="19193" t="16240" r="70868" b="79330"/>
            <a:stretch/>
          </p:blipFill>
          <p:spPr>
            <a:xfrm>
              <a:off x="3203640" y="3500280"/>
              <a:ext cx="121212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14" descr="C:\Users\iljm1\AppData\Local\Microsoft\Windows\Temporary Internet Files\Content.IE5\E3FLBHWN\MC900434810[1].png"/>
          <p:cNvPicPr/>
          <p:nvPr/>
        </p:nvPicPr>
        <p:blipFill>
          <a:blip r:embed="rId11"/>
          <a:stretch/>
        </p:blipFill>
        <p:spPr>
          <a:xfrm>
            <a:off x="680400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C:\Users\iljm1\AppData\Local\Microsoft\Windows\Temporary Internet Files\Content.IE5\JCMSNADZ\MC900012878[1].wmf"/>
          <p:cNvPicPr/>
          <p:nvPr/>
        </p:nvPicPr>
        <p:blipFill>
          <a:blip r:embed="rId12"/>
          <a:stretch/>
        </p:blipFill>
        <p:spPr>
          <a:xfrm>
            <a:off x="4932360" y="1628640"/>
            <a:ext cx="1671480" cy="1132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7" descr="C:\Users\iljm1\AppData\Local\Microsoft\Windows\Temporary Internet Files\Content.IE5\JCMSNADZ\MC900054844[1].wmf"/>
          <p:cNvPicPr/>
          <p:nvPr/>
        </p:nvPicPr>
        <p:blipFill>
          <a:blip r:embed="rId13"/>
          <a:stretch/>
        </p:blipFill>
        <p:spPr>
          <a:xfrm>
            <a:off x="4211640" y="5300640"/>
            <a:ext cx="865080" cy="96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8" descr="C:\Users\iljm1\AppData\Local\Microsoft\Windows\Temporary Internet Files\Content.IE5\ZYK4T5IZ\MP900439394[1].jpg"/>
          <p:cNvPicPr/>
          <p:nvPr/>
        </p:nvPicPr>
        <p:blipFill>
          <a:blip r:embed="rId14"/>
          <a:srcRect l="0" t="4384" r="25535" b="10428"/>
          <a:stretch/>
        </p:blipFill>
        <p:spPr>
          <a:xfrm>
            <a:off x="7885080" y="1989000"/>
            <a:ext cx="839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8" descr="C:\Users\iljm1\AppData\Local\Microsoft\Windows\Temporary Internet Files\Content.IE5\E3FLBHWN\MM900236466[1].gif"/>
          <p:cNvPicPr/>
          <p:nvPr/>
        </p:nvPicPr>
        <p:blipFill>
          <a:blip r:embed="rId1"/>
          <a:stretch/>
        </p:blipFill>
        <p:spPr>
          <a:xfrm>
            <a:off x="5292720" y="314172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5" descr="mixture.JPG"/>
          <p:cNvPicPr/>
          <p:nvPr/>
        </p:nvPicPr>
        <p:blipFill>
          <a:blip r:embed="rId1"/>
          <a:stretch/>
        </p:blipFill>
        <p:spPr>
          <a:xfrm>
            <a:off x="7236000" y="4653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PC.JPG"/>
          <p:cNvPicPr/>
          <p:nvPr/>
        </p:nvPicPr>
        <p:blipFill>
          <a:blip r:embed="rId2"/>
          <a:srcRect l="19084" t="19084" r="19874" b="19874"/>
          <a:stretch/>
        </p:blipFill>
        <p:spPr>
          <a:xfrm>
            <a:off x="6372360" y="285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is your research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your P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ffc000"/>
              </a:buClr>
              <a:buSzPct val="90000"/>
              <a:buFont typeface="Calibri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is the d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Content Placeholder 4" descr="In head.JPG"/>
          <p:cNvPicPr/>
          <p:nvPr/>
        </p:nvPicPr>
        <p:blipFill>
          <a:blip r:embed="rId3"/>
          <a:srcRect l="0" t="0" r="7036" b="0"/>
          <a:stretch/>
        </p:blipFill>
        <p:spPr>
          <a:xfrm>
            <a:off x="4716360" y="1628640"/>
            <a:ext cx="1712880" cy="1843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laptop.JPG"/>
          <p:cNvPicPr/>
          <p:nvPr/>
        </p:nvPicPr>
        <p:blipFill>
          <a:blip r:embed="rId4"/>
          <a:srcRect l="13955" t="0" r="11606" b="23235"/>
          <a:stretch/>
        </p:blipFill>
        <p:spPr>
          <a:xfrm>
            <a:off x="7451640" y="3213000"/>
            <a:ext cx="1297080" cy="1336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safe.JPG"/>
          <p:cNvPicPr/>
          <p:nvPr/>
        </p:nvPicPr>
        <p:blipFill>
          <a:blip r:embed="rId5"/>
          <a:stretch/>
        </p:blipFill>
        <p:spPr>
          <a:xfrm>
            <a:off x="4643280" y="4941720"/>
            <a:ext cx="1332000" cy="1330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051" descr="MPj04309330000[1]"/>
          <p:cNvPicPr/>
          <p:nvPr/>
        </p:nvPicPr>
        <p:blipFill>
          <a:blip r:embed="rId6"/>
          <a:srcRect l="0" t="0" r="0" b="8023"/>
          <a:stretch/>
        </p:blipFill>
        <p:spPr>
          <a:xfrm>
            <a:off x="6732720" y="1700280"/>
            <a:ext cx="17078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418" name="Cloud"/>
          <p:cNvGrpSpPr/>
          <p:nvPr/>
        </p:nvGrpSpPr>
        <p:grpSpPr>
          <a:xfrm>
            <a:off x="5711760" y="5218200"/>
            <a:ext cx="1573200" cy="1085760"/>
            <a:chOff x="5711760" y="5218200"/>
            <a:chExt cx="1573200" cy="1085760"/>
          </a:xfrm>
        </p:grpSpPr>
        <p:pic>
          <p:nvPicPr>
            <p:cNvPr id="419" name="Cloud" descr=""/>
            <p:cNvPicPr/>
            <p:nvPr/>
          </p:nvPicPr>
          <p:blipFill>
            <a:blip r:embed="rId7"/>
            <a:stretch/>
          </p:blipFill>
          <p:spPr>
            <a:xfrm>
              <a:off x="5711760" y="5218200"/>
              <a:ext cx="15732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927760" y="5378400"/>
              <a:ext cx="9651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3" descr="C:\Program Files\Microsoft Office\MEDIA\CAGCAT10\j0185604.wmf"/>
          <p:cNvPicPr/>
          <p:nvPr/>
        </p:nvPicPr>
        <p:blipFill>
          <a:blip r:embed="rId8"/>
          <a:stretch/>
        </p:blipFill>
        <p:spPr>
          <a:xfrm>
            <a:off x="3560760" y="263376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Users\iljm1\AppData\Local\Microsoft\Windows\Temporary Internet Files\Content.IE5\DHCAIX93\MC900434867[1].png"/>
          <p:cNvPicPr/>
          <p:nvPr/>
        </p:nvPicPr>
        <p:blipFill>
          <a:blip r:embed="rId9"/>
          <a:srcRect l="12191" t="15341" r="0" b="12191"/>
          <a:stretch/>
        </p:blipFill>
        <p:spPr>
          <a:xfrm>
            <a:off x="5651640" y="3789360"/>
            <a:ext cx="1224000" cy="1009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iljm1\AppData\Local\Microsoft\Windows\Temporary Internet Files\Content.IE5\E3FLBHWN\MC900389828[1].wmf"/>
          <p:cNvPicPr/>
          <p:nvPr/>
        </p:nvPicPr>
        <p:blipFill>
          <a:blip r:embed="rId10"/>
          <a:stretch/>
        </p:blipFill>
        <p:spPr>
          <a:xfrm>
            <a:off x="3995640" y="4941720"/>
            <a:ext cx="720720" cy="833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C:\Users\iljm1\AppData\Local\Microsoft\Windows\Temporary Internet Files\Content.IE5\E3FLBHWN\MC900431571[1].png"/>
          <p:cNvPicPr/>
          <p:nvPr/>
        </p:nvPicPr>
        <p:blipFill>
          <a:blip r:embed="rId11"/>
          <a:srcRect l="0" t="18776" r="5500" b="24897"/>
          <a:stretch/>
        </p:blipFill>
        <p:spPr>
          <a:xfrm>
            <a:off x="2843280" y="5373720"/>
            <a:ext cx="1081080" cy="647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C:\Users\iljm1\AppData\Local\Microsoft\Windows\Temporary Internet Files\Content.IE5\JCMSNADZ\MP900447002[1].jpg"/>
          <p:cNvPicPr/>
          <p:nvPr/>
        </p:nvPicPr>
        <p:blipFill>
          <a:blip r:embed="rId12"/>
          <a:stretch/>
        </p:blipFill>
        <p:spPr>
          <a:xfrm>
            <a:off x="3995640" y="3645000"/>
            <a:ext cx="14731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asons to manage research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is research data management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..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2:33:21Z</dcterms:created>
  <dc:creator>julie mcleod</dc:creator>
  <dc:description/>
  <dc:language>en-US</dc:language>
  <cp:lastModifiedBy>Sue Childs</cp:lastModifiedBy>
  <dcterms:modified xsi:type="dcterms:W3CDTF">2011-09-05T12:58:17Z</dcterms:modified>
  <cp:revision>47</cp:revision>
  <dc:subject/>
  <dc:title>I’ve collected my data, so what do I do with it now?  Research data management</dc:title>
</cp:coreProperties>
</file>