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Table 8"/>
          <p:cNvGrpSpPr/>
          <p:nvPr/>
        </p:nvGrpSpPr>
        <p:grpSpPr>
          <a:xfrm>
            <a:off x="330120" y="9361440"/>
            <a:ext cx="6064200" cy="708120"/>
            <a:chOff x="330120" y="9361440"/>
            <a:chExt cx="6064200" cy="708120"/>
          </a:xfrm>
        </p:grpSpPr>
        <p:sp>
          <p:nvSpPr>
            <p:cNvPr id="366" name=""/>
            <p:cNvSpPr/>
            <p:nvPr/>
          </p:nvSpPr>
          <p:spPr>
            <a:xfrm>
              <a:off x="330120" y="9361440"/>
              <a:ext cx="57196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© Copyright holder: Northumbria University, School of Computing, Engineering &amp; Information Sciences, 2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Freely available under a Creative Commons Attribution-NonCommercial-ShareAlike 2.0 UK: England &amp; Wales Lice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49800" y="9361440"/>
              <a:ext cx="3445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0120" y="9361440"/>
              <a:ext cx="606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579240" y="817560"/>
            <a:ext cx="2477880" cy="18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Table 7"/>
          <p:cNvGrpSpPr/>
          <p:nvPr/>
        </p:nvGrpSpPr>
        <p:grpSpPr>
          <a:xfrm>
            <a:off x="401760" y="193680"/>
            <a:ext cx="5921280" cy="403200"/>
            <a:chOff x="401760" y="193680"/>
            <a:chExt cx="5921280" cy="403200"/>
          </a:xfrm>
        </p:grpSpPr>
        <p:sp>
          <p:nvSpPr>
            <p:cNvPr id="372" name=""/>
            <p:cNvSpPr/>
            <p:nvPr/>
          </p:nvSpPr>
          <p:spPr>
            <a:xfrm>
              <a:off x="401760" y="193680"/>
              <a:ext cx="59212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DATUM for Health: Research data management training for health stud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Session 3. Digital 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760" y="596880"/>
              <a:ext cx="592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Slide Number Placeholder 6"/>
          <p:cNvSpPr/>
          <p:nvPr/>
        </p:nvSpPr>
        <p:spPr>
          <a:xfrm>
            <a:off x="5945040" y="9407520"/>
            <a:ext cx="49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4502-2FAE-42FF-BA0C-56CFE0568A53}" type="slidenum">
              <a:rPr b="0" lang="en-US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8ADF-6A9E-49F8-A3B7-BF690D3C84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F62A-D24B-462D-8A80-49EF7FB95A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6A3C-5883-475E-9FF2-00F4E03DE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F202-8B61-4282-A237-E086363FDE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90AA-F2D8-4E8A-8E6D-1E286354B0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95B8-2204-4B20-9140-8236E26416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FD24-2892-45F3-A247-A617CF4279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4BBC-45DA-4FFD-9672-5A5038D2BC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1045-334C-4819-B273-57179BB9D3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7B52A-BBE1-4A58-A6BB-8577562C1D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1B35-F271-4635-93AC-60DD62C1FB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2DA1-BD81-49FB-A4D9-296FE82505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49280" y="1428840"/>
            <a:ext cx="828036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22"/>
          <p:cNvSpPr/>
          <p:nvPr/>
        </p:nvSpPr>
        <p:spPr>
          <a:xfrm>
            <a:off x="8358120" y="6381720"/>
            <a:ext cx="357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2BBE-9A42-452E-A918-991AEE48853A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500040" y="6356520"/>
            <a:ext cx="817560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00040" y="1413000"/>
            <a:ext cx="8175600" cy="9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F8C0-8792-4257-91AA-F9C4853AD53C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1428840"/>
            <a:ext cx="867564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23A6-99DD-442E-88B5-8D48366EE437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2"/>
          </p:nvPr>
        </p:nvSpPr>
        <p:spPr>
          <a:xfrm>
            <a:off x="7572240" y="3571920"/>
            <a:ext cx="40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C241-8F59-43E3-86BF-BFA97A4259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0B0F-7F1A-4D57-AE32-8EED1890EBAF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4300-2D67-4B38-81F7-CAD5DA15CE6C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FF19-8F1E-441E-BE62-77A585B158D0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50FF-D20C-4B73-83C4-DEEF43B371B9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D926-B495-406B-B84B-BCFA39D40F0B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ve collected my data, so what do I do with it now?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data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a Curation Life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Conceptualise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into the habit of equating data curation with good re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into the habit of documenting every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filling in your data management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your University / sponsor / funder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the ethical approval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intellectual property r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stand legal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Conceptualise sta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c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roles and responsibil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you use existing data? If so, find out the requirements and constra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you reuse / share your data? If so, identify the ethical, legal and methodological constra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any anticipated publication requirements, e.g. embargoes, restrictions, open access, etc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the software, equipment, storage requirements, skills etc. you will need, and how you will obtain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ols and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CC Helpdesk: www.dcc.ac.uk/helpde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CC Policy and Legal Pages: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/policy-and-leg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RC DM Policy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esds.ac.uk/aandp/create/esrcfaq.a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RC DM Policy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mrc.ac.uk/Ourresearch/Ethicsresearchguidance /Datasharinginitiative/Policy/index.ht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llcome TRUST DM Policy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wellcome.ac.uk/About-us/Policy/Spotlight-issues/Data-sharing/Guidance-for-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eate stage: collecting and analysing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 collection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eation  of associated records and documents, metadata and contextu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taining consent and per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supervisory team, sponsors / funders, participants, information specialists, IT de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Create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realistic and pragmatic – find a balance between what is ideal and what is necess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with your data management plan: it’s a living docu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what you want to do with your research data and what you want others to 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tain the necessary consent and permis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what metadata and contextual information you need and how you will collect and record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Create sta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c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57200" y="1600200"/>
          <a:ext cx="8229600" cy="35654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all the different types and formats of data and records you will collect and prod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the continuum from raw data to published outputs and the many processes your data will under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up file naming rules, version control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protocols for data protection, anonymisation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tain the necessary training and 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ols and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versity’s policies and handbooks e.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ww.northumbria.ac.uk/static/5007/respdf/ethics_handbook_2.pd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KDA guide on managing and shar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ata-archive.ac.uk/create-man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stralian National Data Service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ands.org.au/index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CC guidance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DM Training 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http://goo.gl/aqVNQ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 stage: selecting what to k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cide which data it is legal, appropriate, and valuable to keep over the long 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cide how your data will be kept long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pose of data no longer needed, appropriately and secur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supervisory team, information specialists, IT department, reposi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al appraisal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levance to 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ientific, social, cultural, historic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qu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tential for re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n-replic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nomic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ll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/how-guides/appraise-select-research-data#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Appraise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appraisal and selection as early as pos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the minimum you need to keep for your findings and publications to be supported over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what your university / sponsors / funders expect you to keep, for how long and whe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what laws and regulations affect your data, e.g. what you are allowed, or not allowed, to ke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what you want to do with the data – now and in the future after your PhD is 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539640" y="306864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ession 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oy Davidson and Sarah J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TII and the Digital Cura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oy.davidson@glasgow.ac.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rah.jones@glasgow.ac.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gital Curation Centre (DC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dcc.ac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468360" y="549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se session slides have been adapted by the DATUM Project Team from a presentation made by the Digital Curation Centre (DCC) on 1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y 2011 at Northumbria University as part of the DATUM for Health pilot training programme. This adaptation drew on the DCC’s Digital Curation 101 Lite training materials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dcc.ac.uk/dcc.ac.uk/training/dc-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Appraise sta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c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what you want others to do with your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if your data has wider scientific / cultural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 what consent and permissions you obta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gs to keep – plan where, who, how, and for 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what resources you have access to for sto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if local or national repositories will take your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Appraise sta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c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sure you have all the necessary contextual information, metadata and data 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gs to destroy – plan 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what resources you have access to for de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updating your data management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ols and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CC briefing paper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/briefing-papers/introduction-curation/appraisal-and-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CC how to guide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/how-guides/appraise-select-research-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rthumbria University, Data Protection and Secure Storage of Research Records</a:t>
            </a:r>
            <a:r>
              <a:rPr b="0" lang="en-GB" sz="2800" spc="-1" strike="noStrike">
                <a:solidFill>
                  <a:srgbClr val="0f6fc6"/>
                </a:solidFill>
                <a:latin typeface="Calibri"/>
              </a:rPr>
              <a:t>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northumbria.ac.uk/static/5007/respdf/data-prot_secure_storage.pd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oup exercise - Appraise and sel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three categories of data and rec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ms kept for a shor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, how long, destruction meth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ms kept very long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, how long, where ke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ms that fall in betw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, how long, where kept, destructio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ne or two examples per category from your own PhD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gest stage: transferring data to a custo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ferring data into a curation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IT department, information specialists, repository 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11280" y="4292640"/>
          <a:ext cx="7704000" cy="1463760"/>
        </p:xfrm>
        <a:graphic>
          <a:graphicData uri="http://schemas.openxmlformats.org/drawingml/2006/table">
            <a:tbl>
              <a:tblPr/>
              <a:tblGrid>
                <a:gridCol w="936360"/>
                <a:gridCol w="6767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 what the university’s IT policies and procedures 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able to meet the repository’s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eserve stage: keeping data over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data remains accessible and usable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data remains authentic and has integrity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IT department, information specialists, repository 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e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ware pre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hu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gital Preservation Coalition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pconline.org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Preserve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for the long term early not 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aware of technological changes during your PhD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eciate that there is a limit to what you can personally do to preserve your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  what organisations will do to preserve your data, e.g. the IT department, a repository – and be clear what your role is in this 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 your preservation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ore stage: keeping data safe and sec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 data is kept safe and sec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IT department, repository 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68360" y="3933720"/>
          <a:ext cx="8064360" cy="2011320"/>
        </p:xfrm>
        <a:graphic>
          <a:graphicData uri="http://schemas.openxmlformats.org/drawingml/2006/table">
            <a:tbl>
              <a:tblPr/>
              <a:tblGrid>
                <a:gridCol w="1257120"/>
                <a:gridCol w="6807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on university IT facilities – know what their policies and procedures are, e.g. amount of storage space, backup, security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on your own IT equipment – work out how to keep it safe and se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ccess stage: finding and using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 data is accessible during the PhD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 data is accessible in the future, for personal re-use or sharing with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IT department, repository managers, resear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611280" y="5229360"/>
          <a:ext cx="8064360" cy="822240"/>
        </p:xfrm>
        <a:graphic>
          <a:graphicData uri="http://schemas.openxmlformats.org/drawingml/2006/table">
            <a:tbl>
              <a:tblPr/>
              <a:tblGrid>
                <a:gridCol w="936360"/>
                <a:gridCol w="7128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aware of the many ways you can make your data available to ot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to the data curation lifecycl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age of each stage of the lifecycle in de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s PGR students and others play in data c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list of things to consider at each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s to tools and resou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65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form stage: generating new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ting new data from exist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ear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84360" y="4581360"/>
          <a:ext cx="7704000" cy="822600"/>
        </p:xfrm>
        <a:graphic>
          <a:graphicData uri="http://schemas.openxmlformats.org/drawingml/2006/table">
            <a:tbl>
              <a:tblPr/>
              <a:tblGrid>
                <a:gridCol w="863280"/>
                <a:gridCol w="6840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the epistemological, methodological  and practical issues of reusing / sharing qualitativ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oup exercise – your data management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your own data management plan in the light of the information provided in this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do you need to ad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do you need to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further questions do you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rected learning tas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nk of the problems you’ve experienced with managing your research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nk of any good tips or systems you’ve used for managing your research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hare these in Sessi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Project funded by JISC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Copyright holder: Northumbria University, School of Computing, Engineering &amp; Information Sciences, 2011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Materials made freely available under a Creative Commons Attribution-NonCommercial-ShareAlike 2.0 UK: England &amp; Wales lic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ATUM for Heal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ww.northumbria.ac.uk/dat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5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end of this session you should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reciation of how data curation can support and safeguard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of the data curation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ication of the processes and activities involved in good practice for research data manag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wareness of the free services and tools available to support data c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data cur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active management and appraisal of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ver the lifecycle of scholarly and scientific interes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 have importance as the evidence base for research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uration is part of good research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y curate: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600200"/>
          <a:ext cx="8229600" cy="3627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OE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(Organisation for Economic Co-operation and Development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 Condensed"/>
                        </a:rPr>
                        <a:t>data are a public good and should be openly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RC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(Research Councils U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Code of good research con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 Condensed"/>
                        </a:rPr>
                        <a:t>data should be preserved and accessible for 10 years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rs’ data poli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ww.dcc.ac.uk/resources/policy-and-legal/funders-data-poli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 Condensed"/>
                        </a:rPr>
                        <a:t>Common principles on data poli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f6fc6"/>
                          </a:solidFill>
                          <a:uFillTx/>
                          <a:latin typeface="Calibri"/>
                          <a:ea typeface="DejaVu Sans Condensed"/>
                        </a:rPr>
                        <a:t>www.rcuk.ac.uk/research/Pages/DataPolicy.asp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y curate: rew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citatio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%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iwowar, 2007,  PL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do your re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t data l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research opportunities and collabo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ion of re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0" name="Picture 4" descr="Image1.WMF"/>
          <p:cNvPicPr/>
          <p:nvPr/>
        </p:nvPicPr>
        <p:blipFill>
          <a:blip r:embed="rId1"/>
          <a:stretch/>
        </p:blipFill>
        <p:spPr>
          <a:xfrm>
            <a:off x="3635280" y="1700280"/>
            <a:ext cx="1792440" cy="1790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Image2.WMF"/>
          <p:cNvPicPr/>
          <p:nvPr/>
        </p:nvPicPr>
        <p:blipFill>
          <a:blip r:embed="rId2"/>
          <a:stretch/>
        </p:blipFill>
        <p:spPr>
          <a:xfrm>
            <a:off x="6300720" y="4005360"/>
            <a:ext cx="1716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CC curation lifecycl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5" descr="Lifecycle"/>
          <p:cNvPicPr/>
          <p:nvPr/>
        </p:nvPicPr>
        <p:blipFill>
          <a:blip r:embed="rId1"/>
          <a:stretch/>
        </p:blipFill>
        <p:spPr>
          <a:xfrm>
            <a:off x="2050920" y="1413000"/>
            <a:ext cx="4753080" cy="43196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1619280" y="573264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ww.dcc.ac.uk/resources/curation-lifecycle-model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eptualise stage: planning what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ine a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gin designing your method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n data creation (capture methods, formats, storage options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gin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supervisory team, sponsors / funders, IT, research governance, ethics pan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1:12:56Z</dcterms:created>
  <dc:creator>DATUM for Health Project Team</dc:creator>
  <dc:description/>
  <dc:language>en-US</dc:language>
  <cp:lastModifiedBy>Sue Childs</cp:lastModifiedBy>
  <dcterms:modified xsi:type="dcterms:W3CDTF">2011-09-05T11:51:19Z</dcterms:modified>
  <cp:revision>239</cp:revision>
  <dc:subject/>
  <dc:title>Session 2: Data Curation Lifecycle</dc:title>
</cp:coreProperties>
</file>