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Table 8"/>
          <p:cNvGrpSpPr/>
          <p:nvPr/>
        </p:nvGrpSpPr>
        <p:grpSpPr>
          <a:xfrm>
            <a:off x="330120" y="9361440"/>
            <a:ext cx="6064200" cy="708120"/>
            <a:chOff x="330120" y="9361440"/>
            <a:chExt cx="6064200" cy="708120"/>
          </a:xfrm>
        </p:grpSpPr>
        <p:sp>
          <p:nvSpPr>
            <p:cNvPr id="366" name=""/>
            <p:cNvSpPr/>
            <p:nvPr/>
          </p:nvSpPr>
          <p:spPr>
            <a:xfrm>
              <a:off x="330120" y="9361440"/>
              <a:ext cx="571968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© Copyright holder: Northumbria University, School of Computing, Engineering &amp; Information Sciences, 2011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Freely available under a Creative Commons Attribution-NonCommercial-ShareAlike 2.0 UK: England &amp; Wales Licen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049800" y="9361440"/>
              <a:ext cx="344520" cy="7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30120" y="9361440"/>
              <a:ext cx="6064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579240" y="817560"/>
            <a:ext cx="2477880" cy="18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1" name="Table 7"/>
          <p:cNvGrpSpPr/>
          <p:nvPr/>
        </p:nvGrpSpPr>
        <p:grpSpPr>
          <a:xfrm>
            <a:off x="401760" y="193680"/>
            <a:ext cx="5921280" cy="403200"/>
            <a:chOff x="401760" y="193680"/>
            <a:chExt cx="5921280" cy="403200"/>
          </a:xfrm>
        </p:grpSpPr>
        <p:sp>
          <p:nvSpPr>
            <p:cNvPr id="372" name=""/>
            <p:cNvSpPr/>
            <p:nvPr/>
          </p:nvSpPr>
          <p:spPr>
            <a:xfrm>
              <a:off x="401760" y="193680"/>
              <a:ext cx="5921280" cy="40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9680" bIns="4968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DATUM for Health: Research data management training for health studi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Calibri"/>
                </a:rPr>
                <a:t>Session 3. Digital  Cu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760" y="596880"/>
              <a:ext cx="592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Slide Number Placeholder 6"/>
          <p:cNvSpPr/>
          <p:nvPr/>
        </p:nvSpPr>
        <p:spPr>
          <a:xfrm>
            <a:off x="5945040" y="9407520"/>
            <a:ext cx="49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4BD6-2EAD-422E-936B-175FC76F1746}" type="slidenum">
              <a:rPr b="0" lang="en-US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579600" y="817560"/>
            <a:ext cx="2477880" cy="18590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8960" y="2846520"/>
            <a:ext cx="5435640" cy="63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182DB-01E9-44CD-8B5B-044AAC9AF72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B1B18-1577-493B-AE70-AED0A391CA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4A9F7-F07D-4DE2-8EFD-BDFCEBCF4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8FDAB-3B0A-4CDB-AC38-A5149B2747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3AA4B-995B-403F-BD1E-4390A0FB44E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8098B-B5B4-46E0-98A2-0F3D2D5E774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49F6D-579E-431D-82BE-C63F58DFB9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44A6-1AB3-44F3-8D7C-31B2A240D1B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3F924-CC8E-4C43-8C78-DB4E74DB25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2A984-0CEC-476B-9F47-F3272B67F24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31E05-5C62-4E26-B9C5-5E44AFDB22C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2917A-3E3C-40BC-B93F-0F48B570F23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"/>
          <p:cNvSpPr/>
          <p:nvPr/>
        </p:nvSpPr>
        <p:spPr>
          <a:xfrm>
            <a:off x="449280" y="1428840"/>
            <a:ext cx="828036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Slide Number Placeholder 22"/>
          <p:cNvSpPr/>
          <p:nvPr/>
        </p:nvSpPr>
        <p:spPr>
          <a:xfrm>
            <a:off x="8358120" y="6381720"/>
            <a:ext cx="3571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6436-0A71-4073-B906-D4EF1B5324FA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1"/>
          </p:nvPr>
        </p:nvSpPr>
        <p:spPr>
          <a:xfrm>
            <a:off x="500040" y="6356520"/>
            <a:ext cx="817560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500040" y="1413000"/>
            <a:ext cx="8175600" cy="9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8405-223C-4458-A052-695E88F6BDC4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68360" y="1428840"/>
            <a:ext cx="8675640" cy="7920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4C35-0DF9-468B-BA25-F9CD9194C48A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2"/>
          </p:nvPr>
        </p:nvSpPr>
        <p:spPr>
          <a:xfrm>
            <a:off x="7572240" y="3571920"/>
            <a:ext cx="40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21AF-7107-4E1D-9486-9D504E3A0F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5750-CEC3-433D-8D12-08A85D561C56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3DB7-9AA4-4457-8F5C-1AB119AF5C3E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7C36-B442-4E7E-BD86-15E565EAFAED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FAF3-DBD7-4D42-A140-6152A0FC812E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500040" y="6357960"/>
            <a:ext cx="8143920" cy="365040"/>
          </a:xfrm>
          <a:prstGeom prst="rect">
            <a:avLst/>
          </a:prstGeom>
          <a:gradFill rotWithShape="0">
            <a:gsLst>
              <a:gs pos="0">
                <a:srgbClr val="0d0d0d"/>
              </a:gs>
              <a:gs pos="100000">
                <a:srgbClr val="dee5f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UM for Health – Healthy research needs healthy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22"/>
          <p:cNvSpPr/>
          <p:nvPr/>
        </p:nvSpPr>
        <p:spPr>
          <a:xfrm>
            <a:off x="8358120" y="63579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5BEA-9C5F-4CFB-B779-F1C7828E1438}" type="slidenum">
              <a:rPr b="1" lang="en-US" sz="11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’ve collected my data, so what do I do with it now? 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earch data manag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ssion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ata Curation Life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7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Conceptualise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into the habit of equating data curation with good 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t into the habit of documenting everyth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t filling in your data management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your University / sponsor / funder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the ethical approval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intellectual property righ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stand legal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Conceptualise sta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c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roles and responsibil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you use existing data? If so, find out the requirements and constra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n you reuse / share your data? If so, identify the ethical, legal and methodological constrai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any anticipated publication requirements, e.g. embargoes, restrictions, open access, etc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the software, equipment, storage requirements, skills etc. you will need, and how you will obtain th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ols and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CC Helpdesk: www.dcc.ac.uk/helpde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CC Policy and Legal Pages: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/policy-and-legal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ESRC DM Polic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esds.ac.uk/aandp/create/esrcfaq.as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RC DM Polic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mrc.ac.uk/Ourresearch/Ethicsresearchguidance /Datasharinginitiative/Policy/index.ht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Wellcome TRUST DM Policy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wellcome.ac.uk/About-us/Policy/Spotlight-issues/Data-sharing/Guidance-for-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eate stage: collecting and analysing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 collection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reation  of associated records and documents, metadata and contextual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btaining consent and permis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supervisory team, sponsors / funders, participants, information specialists, IT depart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Create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realistic and pragmatic – find a balance between what is ideal and what is necess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with your data management plan: it’s a living docu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what you want to do with your research data and what you want others to 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tain the necessary consent and permiss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what metadata and contextual information you need and how you will collect and record 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Create sta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c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457200" y="1600200"/>
          <a:ext cx="8229600" cy="35654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all the different types and formats of data and records you will collect and produ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the continuum from raw data to published outputs and the many processes your data will underg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t up file naming rules, version control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protocols for data protection, anonymisation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tain the necessary training and sup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ols and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versity’s policies and handbooks e.g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ww.northumbria.ac.uk/static/5007/respdf/ethics_handbook_2.pd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KDA guide on managing and shar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ata-archive.ac.uk/create-man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ustralian National Data Service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ands.org.au/index.htm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CC guidance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DM Training 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http://goo.gl/aqVNQ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ppraise stage: selecting what to ke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ide which data it is legal, appropriate, and valuable to keep over the long 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cide how your data will be kept long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spose of data no longer needed, appropriately and secur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supervisory team, information specialists, IT department, reposito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eneral appraisal criter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levance to mi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cientific, social, cultural, historical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niqu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tential for redistrib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n-replicabi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conomic c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ull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/how-guides/appraise-select-research-data#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700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Appraise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appraisal and selection as early as possi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e the minimum you need to keep for your findings and publications to be supported over ti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what your university / sponsors / funders expect you to keep, for how long and wher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what laws and regulations affect your data, e.g. what you are allowed, or not allowed, to kee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what you want to do with the data – now and in the future after your PhD is comple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1"/>
          <p:cNvSpPr/>
          <p:nvPr/>
        </p:nvSpPr>
        <p:spPr>
          <a:xfrm>
            <a:off x="539640" y="3068640"/>
            <a:ext cx="8136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ession presen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Joy Davidson and Sarah J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ATII and the Digital Curation Cen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joy.davidson@glasgow.ac.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rah.jones@glasgow.ac.u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gital Curation Centre (DC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dcc.ac.u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2"/>
          <p:cNvSpPr/>
          <p:nvPr/>
        </p:nvSpPr>
        <p:spPr>
          <a:xfrm>
            <a:off x="468360" y="54936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se session slides have been adapted by the DATUM Project Team from a presentation made by the Digital Curation Centre (DCC) on 1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May 2011 at Northumbria University as part of the DATUM for Health pilot training programme. This adaptation drew on the DCC’s Digital Curation 101 Lite training materials </a:t>
            </a:r>
            <a:r>
              <a:rPr b="0" lang="en-GB" sz="2400" spc="-1" strike="noStrike" u="sng">
                <a:solidFill>
                  <a:srgbClr val="0f6fc6"/>
                </a:solidFill>
                <a:uFillTx/>
                <a:latin typeface="Calibri"/>
              </a:rPr>
              <a:t>www.dcc.ac.uk/dcc.ac.uk/training/dc-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Appraise sta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c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457200" y="1600200"/>
          <a:ext cx="8229600" cy="384012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k about what you want others to do with your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if your data has wider scientific / cultural val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 what consent and permissions you obtai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gs to keep – plan where, who, how, and for 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what resources you have access to for stor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if local or national repositories will take your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Appraise stag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/co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457200" y="1600200"/>
          <a:ext cx="8229600" cy="310824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sure you have all the necessary contextual information, metadata and data docum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ings to destroy – plan 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d out what resources you have access to for destru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inue updating your data management 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ools and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CC briefing paper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/briefing-papers/introduction-curation/appraisal-and-sel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CC how to guide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cc.ac.uk/resources/how-guides/appraise-select-research-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orthumbria University, Data Protection and Secure Storage of Research Records</a:t>
            </a:r>
            <a:r>
              <a:rPr b="0" lang="en-GB" sz="2800" spc="-1" strike="noStrike">
                <a:solidFill>
                  <a:srgbClr val="0f6fc6"/>
                </a:solidFill>
                <a:latin typeface="Calibri"/>
              </a:rPr>
              <a:t>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northumbria.ac.uk/static/5007/respdf/data-prot_secure_storage.pd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oup exercise - Appraise and sel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three categories of data and reco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ms kept for a short peri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, how long, destruction metho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ms kept very long 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, how long, where kep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ems that fall in betwe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, how long, where kept, destruction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ne or two examples per category from your own PhD stud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ngest stage: transferring data to a custodi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ransferring data into a curation environ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IT department, information specialists, repository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611280" y="4292640"/>
          <a:ext cx="7704000" cy="1463760"/>
        </p:xfrm>
        <a:graphic>
          <a:graphicData uri="http://schemas.openxmlformats.org/drawingml/2006/table">
            <a:tbl>
              <a:tblPr/>
              <a:tblGrid>
                <a:gridCol w="936360"/>
                <a:gridCol w="67676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 what the university’s IT policies and procedures a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able to meet the repository’s require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eserve stage: keeping data over 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data remains accessible and usable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data remains authentic and has integrity ove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IT department, information specialists, repository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eser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mu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dware preserv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xhu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gital Preservation Coalition </a:t>
            </a:r>
            <a:r>
              <a:rPr b="0" lang="en-GB" sz="2800" spc="-1" strike="noStrike" u="sng">
                <a:solidFill>
                  <a:srgbClr val="0f6fc6"/>
                </a:solidFill>
                <a:uFillTx/>
                <a:latin typeface="Calibri"/>
              </a:rPr>
              <a:t>www.dpconline.org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hecklist: Preserve st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457200" y="1600200"/>
          <a:ext cx="8229600" cy="3932280"/>
        </p:xfrm>
        <a:graphic>
          <a:graphicData uri="http://schemas.openxmlformats.org/drawingml/2006/table">
            <a:tbl>
              <a:tblPr/>
              <a:tblGrid>
                <a:gridCol w="801720"/>
                <a:gridCol w="742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for the long term early not l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aware of technological changes during your PhD stud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eciate that there is a limit to what you can personally do to preserve your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now  what organisations will do to preserve your data, e.g. the IT department, a repository – and be clear what your role is in this proc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cument your preservation ac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tore stage: keeping data safe and sec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 data is kept safe and sec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IT department, repository manag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68360" y="3933720"/>
          <a:ext cx="8064360" cy="2011320"/>
        </p:xfrm>
        <a:graphic>
          <a:graphicData uri="http://schemas.openxmlformats.org/drawingml/2006/table">
            <a:tbl>
              <a:tblPr/>
              <a:tblGrid>
                <a:gridCol w="1257120"/>
                <a:gridCol w="680724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on university IT facilities – know what their policies and procedures are, e.g. amount of storage space, backup, security etc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 on your own IT equipment – work out how to keep it safe and sec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ccess stage: finding and using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 data is accessible during the PhD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suring  data is accessible in the future, for personal re-use or sharing with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IT department, repository managers, resear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39" name=""/>
          <p:cNvGraphicFramePr/>
          <p:nvPr/>
        </p:nvGraphicFramePr>
        <p:xfrm>
          <a:off x="611280" y="5229360"/>
          <a:ext cx="8064360" cy="822240"/>
        </p:xfrm>
        <a:graphic>
          <a:graphicData uri="http://schemas.openxmlformats.org/drawingml/2006/table">
            <a:tbl>
              <a:tblPr/>
              <a:tblGrid>
                <a:gridCol w="936360"/>
                <a:gridCol w="71280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 aware of the many ways you can make your data available to ot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 to the data curation lifecycl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erage of each stage of the lifecycle in deta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s PGR students and others play in data cu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cklist of things to consider at each s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s to tools and resour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65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ransform stage: generating new 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enerating new data from existing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sear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684360" y="4581360"/>
          <a:ext cx="7704000" cy="822600"/>
        </p:xfrm>
        <a:graphic>
          <a:graphicData uri="http://schemas.openxmlformats.org/drawingml/2006/table">
            <a:tbl>
              <a:tblPr/>
              <a:tblGrid>
                <a:gridCol w="863280"/>
                <a:gridCol w="6840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6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der the epistemological, methodological  and practical issues of reusing / sharing qualitative d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Group exercise – your data management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cuss your own data management plan in the light of the information provided in this se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do you need to ad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do you need to chang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hat further questions do you hav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rected learning tas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nk of the problems you’ve experienced with managing your research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nk of any good tips or systems you’ve used for managing your research da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hare these in Sessi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Project funded by JISC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Copyright holder: Northumbria University, School of Computing, Engineering &amp; Information Sciences, 2011</a:t>
            </a:r>
            <a:br>
              <a:rPr sz="2000"/>
            </a:br>
            <a:r>
              <a:rPr b="0" lang="en-GB" sz="2000" spc="-1" strike="noStrike">
                <a:solidFill>
                  <a:srgbClr val="7f7f7f"/>
                </a:solidFill>
                <a:latin typeface="Calibri"/>
              </a:rPr>
              <a:t>Materials made freely available under a Creative Commons Attribution-NonCommercial-ShareAlike 2.0 UK: England &amp; Wales lic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ATUM for Healt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ww.northumbria.ac.uk/dat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3" descr="250x86_unnlogo_trans.gif"/>
          <p:cNvPicPr/>
          <p:nvPr/>
        </p:nvPicPr>
        <p:blipFill>
          <a:blip r:embed="rId1"/>
          <a:stretch/>
        </p:blipFill>
        <p:spPr>
          <a:xfrm>
            <a:off x="5715000" y="642960"/>
            <a:ext cx="3035160" cy="10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earning outco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65000"/>
              </a:lnSpc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 the end of this session you should ha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ppreciation of how data curation can support and safeguard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ing of the data curation lifecyc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dentification of the processes and activities involved in good practice for research data manag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wareness of the free services and tools available to support data cu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6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data curatio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active management and appraisal of da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ver the lifecycle of scholarly and scientific interest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ata have importance as the evidence base for research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Curation is part of good research prac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y curate: 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457200" y="1600200"/>
          <a:ext cx="8229600" cy="3627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92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OE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(Organisation for Economic Co-operation and Development 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Decla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 Condensed"/>
                        </a:rPr>
                        <a:t>data are a public good and should be openly avail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RCU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(Research Councils U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f6fc6"/>
                          </a:solidFill>
                          <a:latin typeface="Calibri"/>
                        </a:rPr>
                        <a:t>Code of good research condu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 Condensed"/>
                        </a:rPr>
                        <a:t>data should be preserved and accessible for 10 years 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nders’ data poli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ww.dcc.ac.uk/resources/policy-and-legal/funders-data-poli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DejaVu Sans Condensed"/>
                        </a:rPr>
                        <a:t>Common principles on data poli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 u="sng">
                          <a:solidFill>
                            <a:srgbClr val="0f6fc6"/>
                          </a:solidFill>
                          <a:uFillTx/>
                          <a:latin typeface="Calibri"/>
                          <a:ea typeface="DejaVu Sans Condensed"/>
                        </a:rPr>
                        <a:t>www.rcuk.ac.uk/research/Pages/DataPolicy.asp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y curate: rew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457200" y="1600200"/>
          <a:ext cx="8229600" cy="4664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citations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% ↑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iwowar, 2007,  PL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do your 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t data lo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research opportunities and collabor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ion of resear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90" name="Picture 4" descr="Image1.WMF"/>
          <p:cNvPicPr/>
          <p:nvPr/>
        </p:nvPicPr>
        <p:blipFill>
          <a:blip r:embed="rId1"/>
          <a:stretch/>
        </p:blipFill>
        <p:spPr>
          <a:xfrm>
            <a:off x="3635280" y="1700280"/>
            <a:ext cx="1792440" cy="17906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Image2.WMF"/>
          <p:cNvPicPr/>
          <p:nvPr/>
        </p:nvPicPr>
        <p:blipFill>
          <a:blip r:embed="rId2"/>
          <a:stretch/>
        </p:blipFill>
        <p:spPr>
          <a:xfrm>
            <a:off x="6300720" y="4005360"/>
            <a:ext cx="17161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CC curation lifecycl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5" descr="Lifecycle"/>
          <p:cNvPicPr/>
          <p:nvPr/>
        </p:nvPicPr>
        <p:blipFill>
          <a:blip r:embed="rId1"/>
          <a:stretch/>
        </p:blipFill>
        <p:spPr>
          <a:xfrm>
            <a:off x="2050920" y="1413000"/>
            <a:ext cx="4753080" cy="4319640"/>
          </a:xfrm>
          <a:prstGeom prst="rect">
            <a:avLst/>
          </a:prstGeom>
          <a:ln w="0">
            <a:noFill/>
          </a:ln>
        </p:spPr>
      </p:pic>
      <p:sp>
        <p:nvSpPr>
          <p:cNvPr id="394" name="TextBox 4"/>
          <p:cNvSpPr/>
          <p:nvPr/>
        </p:nvSpPr>
        <p:spPr>
          <a:xfrm>
            <a:off x="1619280" y="5732640"/>
            <a:ext cx="5832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www.dcc.ac.uk/resources/curation-lifecycle-model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eptualise stage: planning what to 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ctiviti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fine a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gin designing your method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lan data creation (capture methods, formats, storage options etc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gin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ffc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GR student, supervisory team, sponsors / funders, IT, research governance, ethics pan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11:12:56Z</dcterms:created>
  <dc:creator>DATUM for Health Project Team</dc:creator>
  <dc:description/>
  <dc:language>en-US</dc:language>
  <cp:lastModifiedBy>Sue Childs</cp:lastModifiedBy>
  <dcterms:modified xsi:type="dcterms:W3CDTF">2011-09-05T11:51:19Z</dcterms:modified>
  <cp:revision>239</cp:revision>
  <dc:subject/>
  <dc:title>Session 2: Data Curation Lifecycle</dc:title>
</cp:coreProperties>
</file>