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5.wmf" ContentType="image/x-wmf"/>
  <Override PartName="/ppt/media/image12.jpeg" ContentType="image/jpeg"/>
  <Override PartName="/ppt/media/image6.png" ContentType="image/png"/>
  <Override PartName="/ppt/media/image10.png" ContentType="image/png"/>
  <Override PartName="/ppt/media/image4.wmf" ContentType="image/x-wmf"/>
  <Override PartName="/ppt/media/image26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700200" y="749160"/>
            <a:ext cx="227016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Table 7"/>
          <p:cNvGrpSpPr/>
          <p:nvPr/>
        </p:nvGrpSpPr>
        <p:grpSpPr>
          <a:xfrm>
            <a:off x="404640" y="177840"/>
            <a:ext cx="5975640" cy="369720"/>
            <a:chOff x="404640" y="177840"/>
            <a:chExt cx="5975640" cy="369720"/>
          </a:xfrm>
        </p:grpSpPr>
        <p:sp>
          <p:nvSpPr>
            <p:cNvPr id="368" name=""/>
            <p:cNvSpPr/>
            <p:nvPr/>
          </p:nvSpPr>
          <p:spPr>
            <a:xfrm>
              <a:off x="404640" y="177840"/>
              <a:ext cx="5975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alibri"/>
                </a:rPr>
                <a:t>DATUM for Health: Research data management training for health stud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alibri"/>
                </a:rPr>
                <a:t>Session 3. Problems and Practical Strateg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4640" y="177840"/>
              <a:ext cx="0" cy="36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80280" y="177840"/>
              <a:ext cx="0" cy="36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4640" y="177840"/>
              <a:ext cx="597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4640" y="547560"/>
              <a:ext cx="597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Table 8"/>
          <p:cNvGrpSpPr/>
          <p:nvPr/>
        </p:nvGrpSpPr>
        <p:grpSpPr>
          <a:xfrm>
            <a:off x="333360" y="8442360"/>
            <a:ext cx="6337440" cy="501480"/>
            <a:chOff x="333360" y="8442360"/>
            <a:chExt cx="6337440" cy="501480"/>
          </a:xfrm>
        </p:grpSpPr>
        <p:sp>
          <p:nvSpPr>
            <p:cNvPr id="374" name=""/>
            <p:cNvSpPr/>
            <p:nvPr/>
          </p:nvSpPr>
          <p:spPr>
            <a:xfrm>
              <a:off x="333360" y="8442360"/>
              <a:ext cx="59770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alibri"/>
                </a:rPr>
                <a:t>© Copyright holder: Northumbria Universi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alibri"/>
                </a:rPr>
                <a:t>School of Computing, Engineering &amp; Information Sciences, 2011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alibri"/>
                </a:rPr>
                <a:t>Freely available under a Creative Commons Attribution-NonCommercial-ShareAlike 2.0 UK: England &amp; Wales Licen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10440" y="8442360"/>
              <a:ext cx="3603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C06FDB3-B8B4-4338-AF13-D12B9589FD51}" type="slidenum">
                <a:rPr b="1" lang="en-GB" sz="900" spc="-1" strike="noStrike">
                  <a:solidFill>
                    <a:srgbClr val="000000"/>
                  </a:solidFill>
                  <a:latin typeface="Calibri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10440" y="8442360"/>
              <a:ext cx="0" cy="50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3360" y="8442360"/>
              <a:ext cx="0" cy="50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70800" y="8442360"/>
              <a:ext cx="0" cy="50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3360" y="8442360"/>
              <a:ext cx="59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2270160" cy="17017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700200" y="749160"/>
            <a:ext cx="2270160" cy="17035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0D90-5530-4019-9351-931D19F3B4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2270160" cy="17017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2270160" cy="17017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2270160" cy="17017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700200" y="750960"/>
            <a:ext cx="2270160" cy="17017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2608200"/>
            <a:ext cx="54864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is slide is not for the handout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CDD5-99E5-479C-8BDC-F4EA82B0ED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03E8-0CF5-40D9-B4E7-CA2062C7C9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0DD93-391D-450F-90C9-CED19DE1B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8FEF-0D75-4E88-B02D-8F22A2D4F1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D890-AB53-4A9F-AE8A-570B02B9FB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8BE63-2828-4A1A-86BC-1CD8074C79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B6A9-AC5E-4E77-8CCE-775AA25354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9F7A-391E-4098-8A50-F86E941C4F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2777-5CD9-4150-8B59-102BFAF0C5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B4BA-E741-4927-9AA8-B3832E751A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ECEBF-85DD-43D6-85FB-3E779EE05B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0A7E-4C2A-42D9-AE94-F85ED080C1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449280" y="1428840"/>
            <a:ext cx="828036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lide Number Placeholder 22"/>
          <p:cNvSpPr/>
          <p:nvPr/>
        </p:nvSpPr>
        <p:spPr>
          <a:xfrm>
            <a:off x="8358120" y="6381720"/>
            <a:ext cx="357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3412-F219-4D91-AB74-B80FBDC60577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500040" y="6356520"/>
            <a:ext cx="817560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00040" y="1413000"/>
            <a:ext cx="8175600" cy="9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81E6-A135-40BE-AE55-508B63A0967F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68360" y="1428840"/>
            <a:ext cx="867564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5F53-0321-4E12-9CC0-2AF5B8CF06B9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2"/>
          </p:nvPr>
        </p:nvSpPr>
        <p:spPr>
          <a:xfrm>
            <a:off x="7572240" y="3571920"/>
            <a:ext cx="40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6932-6D81-488C-A4A5-868E2F4FD1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70E4-EE89-4774-84E1-F8B02DB93885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E1B3-0112-421E-B04F-D051BF004BB9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5C56-DA4D-4A67-A356-3BF078F774DD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33F4-70E2-4BC6-88E2-FB6A7D98D260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UM for Health –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622D-F8A1-4283-B0A6-B25A17200604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wmf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ve collected my data, so what do I do with it now?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data managem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roblems and practical strategies and solu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Protection Act – managing person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Obtained and processed fairly and lawfu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Obtained and processed only for specified lawful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. Adequate, relevant and not exces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4. Accurate and, where necessary, up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. Kept no longer than necessa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6. Processed in accordance with the rights of the data sub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7. Kept securely and safe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. Only transferred outside EEA with specific prot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ISC, Data Protection Code of Practice </a:t>
            </a:r>
            <a:r>
              <a:rPr b="0" i="1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.jisc.ac.uk/publications/generalpublications/2001/pub_dpacop_0101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Protection Act - sensitive person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942480" indent="-49896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hysical or mental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xual lif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cial or ethnic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litical opinions or religious or philosophical belief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de union memb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commission/alleged commission of any offenc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trig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628280"/>
            <a:ext cx="5122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research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sensitiv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 reaction to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to withdraw 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Know your secto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3" descr="organisation.bmp"/>
          <p:cNvPicPr/>
          <p:nvPr/>
        </p:nvPicPr>
        <p:blipFill>
          <a:blip r:embed="rId1"/>
          <a:stretch/>
        </p:blipFill>
        <p:spPr>
          <a:xfrm>
            <a:off x="5867280" y="1844640"/>
            <a:ext cx="214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health related guida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cupational Health Solutions  www.occupationalhealth.co.uk/subscribers/medical_records_and_confidentiality.ht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MC, Confidentiality </a:t>
            </a:r>
            <a:r>
              <a:rPr b="0" lang="en-US" sz="2000" spc="-1" strike="noStrike" u="sng">
                <a:solidFill>
                  <a:srgbClr val="0f6fc6"/>
                </a:solidFill>
                <a:uFillTx/>
                <a:latin typeface="Calibri"/>
              </a:rPr>
              <a:t>www.gmc-uk.org/guidance/ethical_guidance/confidentiality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rsing and Midwifery Council Code of  Professional Conduct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f6fc6"/>
                </a:solidFill>
                <a:uFillTx/>
                <a:latin typeface="Calibri"/>
              </a:rPr>
              <a:t>http://www.nmc-uk.org/Nurses-and-midwives/Advice-by-topic/A/Advice/Confidentiality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de of Ethics for Social Work (2002) </a:t>
            </a:r>
            <a:r>
              <a:rPr b="0" lang="en-US" sz="2000" spc="-1" strike="noStrike" u="sng">
                <a:solidFill>
                  <a:srgbClr val="0f6fc6"/>
                </a:solidFill>
                <a:uFillTx/>
                <a:latin typeface="Calibri"/>
              </a:rPr>
              <a:t>http://bjsw.oxfordjournals.org/content/32/2/239.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ldicott Guardian Manual  (2010) </a:t>
            </a:r>
            <a:r>
              <a:rPr b="0" lang="en-US" sz="2000" spc="-1" strike="noStrike" u="sng">
                <a:solidFill>
                  <a:srgbClr val="0f6fc6"/>
                </a:solidFill>
                <a:uFillTx/>
                <a:latin typeface="Calibri"/>
              </a:rPr>
              <a:t>www.dh.gov.uk/en/Managingyourorganisation/Informationpolicy/Patientconfidentialityandcaldicottguardians/DH_41005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onymisation 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onymising qualitative data 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ot and Mouth Disease example from the UKDA col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0" name="Picture 3" descr="office shelving.jpg"/>
          <p:cNvPicPr/>
          <p:nvPr/>
        </p:nvPicPr>
        <p:blipFill>
          <a:blip r:embed="rId1"/>
          <a:stretch/>
        </p:blipFill>
        <p:spPr>
          <a:xfrm>
            <a:off x="324000" y="0"/>
            <a:ext cx="3024000" cy="3284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office worker.jpg"/>
          <p:cNvPicPr/>
          <p:nvPr/>
        </p:nvPicPr>
        <p:blipFill>
          <a:blip r:embed="rId2"/>
          <a:stretch/>
        </p:blipFill>
        <p:spPr>
          <a:xfrm>
            <a:off x="4859280" y="333360"/>
            <a:ext cx="3889440" cy="2664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password_post-it_note.gif"/>
          <p:cNvPicPr/>
          <p:nvPr/>
        </p:nvPicPr>
        <p:blipFill>
          <a:blip r:embed="rId3"/>
          <a:stretch/>
        </p:blipFill>
        <p:spPr>
          <a:xfrm>
            <a:off x="5651640" y="1341360"/>
            <a:ext cx="720720" cy="503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filing cabinet.jpg"/>
          <p:cNvPicPr/>
          <p:nvPr/>
        </p:nvPicPr>
        <p:blipFill>
          <a:blip r:embed="rId4"/>
          <a:stretch/>
        </p:blipFill>
        <p:spPr>
          <a:xfrm>
            <a:off x="7488360" y="3716280"/>
            <a:ext cx="1655640" cy="3141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identitytheft.jpg"/>
          <p:cNvPicPr/>
          <p:nvPr/>
        </p:nvPicPr>
        <p:blipFill>
          <a:blip r:embed="rId5"/>
          <a:stretch/>
        </p:blipFill>
        <p:spPr>
          <a:xfrm>
            <a:off x="324000" y="3789360"/>
            <a:ext cx="3887640" cy="2898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confidential waster.bmp"/>
          <p:cNvPicPr/>
          <p:nvPr/>
        </p:nvPicPr>
        <p:blipFill>
          <a:blip r:embed="rId6"/>
          <a:stretch/>
        </p:blipFill>
        <p:spPr>
          <a:xfrm>
            <a:off x="6659640" y="2421000"/>
            <a:ext cx="865080" cy="576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Office-Desk.jpg"/>
          <p:cNvPicPr/>
          <p:nvPr/>
        </p:nvPicPr>
        <p:blipFill>
          <a:blip r:embed="rId7"/>
          <a:stretch/>
        </p:blipFill>
        <p:spPr>
          <a:xfrm>
            <a:off x="4284720" y="3500280"/>
            <a:ext cx="3600360" cy="3657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Program Files\Microsoft Office\MEDIA\CAGCAT10\j0205582.wmf"/>
          <p:cNvPicPr/>
          <p:nvPr/>
        </p:nvPicPr>
        <p:blipFill>
          <a:blip r:embed="rId8"/>
          <a:srcRect l="36494" t="22085" r="22999" b="16078"/>
          <a:stretch/>
        </p:blipFill>
        <p:spPr>
          <a:xfrm>
            <a:off x="5867280" y="3789360"/>
            <a:ext cx="720720" cy="100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Users\elomas\AppData\Local\Microsoft\Windows\Temporary Internet Files\Content.IE5\494DS8O6\MP900422410[1].jpg"/>
          <p:cNvPicPr/>
          <p:nvPr/>
        </p:nvPicPr>
        <p:blipFill>
          <a:blip r:embed="rId9"/>
          <a:srcRect l="43706" t="26902" r="34260" b="48951"/>
          <a:stretch/>
        </p:blipFill>
        <p:spPr>
          <a:xfrm>
            <a:off x="4643280" y="4076640"/>
            <a:ext cx="720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ecurity and sto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599840"/>
            <a:ext cx="41148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ecurity measures should I take with the personal data I ho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O tips </a:t>
            </a:r>
            <a:r>
              <a:rPr b="0" lang="en-US" sz="2000" spc="-1" strike="noStrike" u="sng">
                <a:solidFill>
                  <a:srgbClr val="0f6fc6"/>
                </a:solidFill>
                <a:uFillTx/>
                <a:latin typeface="Calibri"/>
              </a:rPr>
              <a:t>www.ico.gov.uk/for_organisations/data_protection/security_measures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3" descr="security_taxonomy_small.gif"/>
          <p:cNvPicPr/>
          <p:nvPr/>
        </p:nvPicPr>
        <p:blipFill>
          <a:blip r:embed="rId1"/>
          <a:stretch/>
        </p:blipFill>
        <p:spPr>
          <a:xfrm>
            <a:off x="5292720" y="1844640"/>
            <a:ext cx="3456000" cy="4176720"/>
          </a:xfrm>
          <a:prstGeom prst="rect">
            <a:avLst/>
          </a:prstGeom>
          <a:ln w="0">
            <a:noFill/>
          </a:ln>
        </p:spPr>
      </p:pic>
      <p:sp>
        <p:nvSpPr>
          <p:cNvPr id="432" name="TextBox 4"/>
          <p:cNvSpPr/>
          <p:nvPr/>
        </p:nvSpPr>
        <p:spPr>
          <a:xfrm>
            <a:off x="1905480" y="6021360"/>
            <a:ext cx="68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f6fc6"/>
                </a:solidFill>
                <a:uFillTx/>
                <a:latin typeface="Arial"/>
              </a:rPr>
              <a:t>www.unc.edu/courses/2010spring/law/357c/001/cloudcomputing/security-policy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ecurity and sto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2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1332000" y="2060640"/>
            <a:ext cx="1644480" cy="1728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C:\Users\elomas\AppData\Local\Microsoft\Windows\Temporary Internet Files\Content.IE5\CB3LFIS8\MC900366352[1].wmf"/>
          <p:cNvPicPr/>
          <p:nvPr/>
        </p:nvPicPr>
        <p:blipFill>
          <a:blip r:embed="rId2"/>
          <a:stretch/>
        </p:blipFill>
        <p:spPr>
          <a:xfrm>
            <a:off x="6875640" y="2205000"/>
            <a:ext cx="1441440" cy="1584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Users\elomas\AppData\Local\Microsoft\Windows\Temporary Internet Files\Content.IE5\CB3LFIS8\MC900287508[1].wmf"/>
          <p:cNvPicPr/>
          <p:nvPr/>
        </p:nvPicPr>
        <p:blipFill>
          <a:blip r:embed="rId3"/>
          <a:stretch/>
        </p:blipFill>
        <p:spPr>
          <a:xfrm>
            <a:off x="3995640" y="378936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437" name="TextBox 7"/>
          <p:cNvSpPr/>
          <p:nvPr/>
        </p:nvSpPr>
        <p:spPr>
          <a:xfrm>
            <a:off x="1332000" y="4005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8"/>
          <p:cNvSpPr/>
          <p:nvPr/>
        </p:nvSpPr>
        <p:spPr>
          <a:xfrm>
            <a:off x="4211640" y="31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9"/>
          <p:cNvSpPr/>
          <p:nvPr/>
        </p:nvSpPr>
        <p:spPr>
          <a:xfrm>
            <a:off x="7020000" y="40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ecurity and sto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540080" y="2283480"/>
            <a:ext cx="5134680" cy="2949480"/>
          </a:xfrm>
          <a:prstGeom prst="rect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rtual Spa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ecting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device and softw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o rec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cam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ptop, iPad, iPhone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2.0/Open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sues confront the researcher in managing research dat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es &amp; tactics for dealing with thes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dentiality and data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storage and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 structures, file names and meta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nd up; What nex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oring data within the un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system (protect your passwords) - U drive advised for personal information and Shared drives for collaborativ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icrosoft Office su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V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a Citr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63960" indent="-1400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dn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3960" indent="-1400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nd Gen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3960" indent="-1400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P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o rec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p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2.0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k Top Anyw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o rec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p t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2.0/Open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op 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2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7020000" y="220500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C:\Users\elomas\AppData\Local\Microsoft\Windows\Temporary Internet Files\Content.IE5\494DS8O6\MP910221029[1].jpg"/>
          <p:cNvPicPr/>
          <p:nvPr/>
        </p:nvPicPr>
        <p:blipFill>
          <a:blip r:embed="rId2"/>
          <a:stretch/>
        </p:blipFill>
        <p:spPr>
          <a:xfrm>
            <a:off x="5651640" y="3213000"/>
            <a:ext cx="1512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thumbria University guid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50560" y="162864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earch ethics and governance handbook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ww.northumbria.ac.uk/static/5007/respdf/ethics_handbook_2.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ta storage and protection policy  - d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ww.northumbria.ac.uk/static/5007/respdf/data-prot_secure_storage.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CES research  guidance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northumbria.ac.uk/sd/academic/sches/research/861565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em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9528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 is similar to a postc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 is *not* secure—nor is it priv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ryption is the only way to help in preventing others from reading your   e-mai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 access to all confidenti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k away all confidential documents and storage devices including lapt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red confidential docu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roy USB sticks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se your documents and fi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50560" y="162864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e your dat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fil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naming co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access, search and reference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consistent across software systems and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4" descr="C:\Users\elomas\AppData\Local\Microsoft\Windows\Temporary Internet Files\Content.IE5\494DS8O6\MC900433853[1].png"/>
          <p:cNvPicPr/>
          <p:nvPr/>
        </p:nvPicPr>
        <p:blipFill>
          <a:blip r:embed="rId1"/>
          <a:stretch/>
        </p:blipFill>
        <p:spPr>
          <a:xfrm>
            <a:off x="6732720" y="1341360"/>
            <a:ext cx="16556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lders and docum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4920" y="1844280"/>
            <a:ext cx="6985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separate folders and copy documents for NVIVO or other analysis activities which will alter th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paper and electronic records can be mapp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raw and anonymised data can be map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5" descr="C:\Users\elomas\AppData\Local\Microsoft\Windows\Temporary Internet Files\Content.IE5\GR1GYLGY\MC900199371[1].wmf"/>
          <p:cNvPicPr/>
          <p:nvPr/>
        </p:nvPicPr>
        <p:blipFill>
          <a:blip r:embed="rId1"/>
          <a:stretch/>
        </p:blipFill>
        <p:spPr>
          <a:xfrm>
            <a:off x="7020000" y="4292640"/>
            <a:ext cx="1738080" cy="19112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C:\Users\elomas\AppData\Local\Microsoft\Windows\Temporary Internet Files\Content.IE5\494DS8O6\MP900448196[1].jpg"/>
          <p:cNvPicPr/>
          <p:nvPr/>
        </p:nvPicPr>
        <p:blipFill>
          <a:blip r:embed="rId2"/>
          <a:stretch/>
        </p:blipFill>
        <p:spPr>
          <a:xfrm>
            <a:off x="7505640" y="1484280"/>
            <a:ext cx="12430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39640" y="1413000"/>
            <a:ext cx="77774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ep file names short but meaning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oid special characters, e.g. /\:[]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derscore spaces _ 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%20 may replac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erse dates so they sort usefully YYYYMMDD e.g. 201118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sure document version contr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g. V01, V02, for drafts V0.1, V0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4" descr="C:\Users\elomas\AppData\Local\Microsoft\Windows\Temporary Internet Files\Content.IE5\494DS8O6\MC900319960[1].wmf"/>
          <p:cNvPicPr/>
          <p:nvPr/>
        </p:nvPicPr>
        <p:blipFill>
          <a:blip r:embed="rId1"/>
          <a:stretch/>
        </p:blipFill>
        <p:spPr>
          <a:xfrm>
            <a:off x="5867280" y="5157720"/>
            <a:ext cx="2737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file name can be an audit tr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le name e.g.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IP02R0120110205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le name components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I P02 R01 201102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interview (type of d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[n]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= participant ID - participant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[n]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= researcher ID – researcher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e of interview in form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YYYYMMD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201102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pare with the file name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interview02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539280" y="1413000"/>
            <a:ext cx="59770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CDCR, Best practices for file-naming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ww.records.ncdcr.gov/erecords/filenaming_20080508_final.pdf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SI (2005)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BSI 8723:2 Structured vocabularies for information retrieval. Guide.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S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isc, Choosing a file name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jiscdigitalmedia.ac.uk/crossmedia/advice/choosing-a-file-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4" descr="C:\Users\elomas\AppData\Local\Microsoft\Windows\Temporary Internet Files\Content.IE5\M0MOFXP0\MC900279110[1].wmf"/>
          <p:cNvPicPr/>
          <p:nvPr/>
        </p:nvPicPr>
        <p:blipFill>
          <a:blip r:embed="rId1"/>
          <a:stretch/>
        </p:blipFill>
        <p:spPr>
          <a:xfrm>
            <a:off x="6659640" y="3213000"/>
            <a:ext cx="186192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end of this session you should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 awareness of research data management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nowledge of practical solutions to research data management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ility to develop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research data management strategy for the rest of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ility to manage data in a future care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50920" y="1052280"/>
            <a:ext cx="68421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iversity of Edinburgh Records Management Section, Standard Naming Conventions For Electronic Records: The Rules,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recordsmanagement.ed.ac.uk/InfoStaff/RMstaff/RMprojects/PP/FileNameRules/Rules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4" descr="C:\Users\elomas\AppData\Local\Microsoft\Windows\Temporary Internet Files\Content.IE5\M0MOFXP0\MC900279110[1].wmf"/>
          <p:cNvPicPr/>
          <p:nvPr/>
        </p:nvPicPr>
        <p:blipFill>
          <a:blip r:embed="rId1"/>
          <a:stretch/>
        </p:blipFill>
        <p:spPr>
          <a:xfrm>
            <a:off x="7281720" y="2997360"/>
            <a:ext cx="18622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94920" y="1052280"/>
            <a:ext cx="7921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bout dat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f6fc6"/>
                </a:solidFill>
                <a:uFillTx/>
                <a:latin typeface="Calibri"/>
              </a:rPr>
              <a:t>www.ed.ac.uk/schools-departments/information-services/services/research-support/data-library/research-data-mgmt/data-mgmt/data-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e customisation options e.g. Microsoft document properties and document temp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reate your own document temp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tilise tools to add meta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le management 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t a social work research scenario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st the research data and documentation that would be cre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velop a list of file n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ructure the file names into a file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undup / 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68360" y="1052280"/>
            <a:ext cx="7921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und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rected learning tasks – your RDM moving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flect on your strategies and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g. anonymisation, files names, fileplan, data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mbed RDM into your PhD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g. portfolio, training plan, supervisory 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Project funded by JISC</a:t>
            </a:r>
            <a:br>
              <a:rPr sz="2000"/>
            </a:b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Copyright holder: Northumbria University, School of Computing, Engineering &amp; Information Sciences, 2011</a:t>
            </a:r>
            <a:br>
              <a:rPr sz="2000"/>
            </a:b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Northumbria University Materials made freely available under a Creative Commons Attribution-NonCommercial-ShareAlike 2.0 UK: England &amp; Wales lic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TUM for Heal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ww.northumbria.ac.uk/dat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563640" y="259920"/>
            <a:ext cx="5329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f Charlotte Clarke, Associate Dean for Research, School of Health, Community &amp; Education Stud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f Julie McLeod, School of Computing, Engineering &amp; Information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pre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ecause it is good research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Callout 4"/>
          <p:cNvSpPr/>
          <p:nvPr/>
        </p:nvSpPr>
        <p:spPr>
          <a:xfrm>
            <a:off x="4500720" y="1341360"/>
            <a:ext cx="3743280" cy="1224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f6fc6">
              <a:alpha val="36000"/>
            </a:srgbClr>
          </a:solidFill>
          <a:ln w="25560">
            <a:solidFill>
              <a:srgbClr val="085091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ata management is essential to excellence in resear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Callout 6"/>
          <p:cNvSpPr/>
          <p:nvPr/>
        </p:nvSpPr>
        <p:spPr>
          <a:xfrm>
            <a:off x="3564000" y="3500280"/>
            <a:ext cx="5184720" cy="2016360"/>
          </a:xfrm>
          <a:prstGeom prst="wedgeEllipseCallout">
            <a:avLst>
              <a:gd name="adj1" fmla="val -24967"/>
              <a:gd name="adj2" fmla="val 57495"/>
            </a:avLst>
          </a:prstGeom>
          <a:solidFill>
            <a:srgbClr val="0f6fc6">
              <a:alpha val="36000"/>
            </a:srgbClr>
          </a:solidFill>
          <a:ln w="25560">
            <a:solidFill>
              <a:srgbClr val="085091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part from the benefits for research, good data management is vital for many reasons: accountability, security, appropriate data-sharing, re-use protocols and pre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problems do you have managing your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onflict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nsiderations have you had in managing your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resourc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ssues have you had in managing your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other problem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have you had in managing your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5" descr="info.JPG"/>
          <p:cNvPicPr/>
          <p:nvPr/>
        </p:nvPicPr>
        <p:blipFill>
          <a:blip r:embed="rId1"/>
          <a:stretch/>
        </p:blipFill>
        <p:spPr>
          <a:xfrm>
            <a:off x="5292720" y="3141720"/>
            <a:ext cx="1332000" cy="1330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question.JPG"/>
          <p:cNvPicPr/>
          <p:nvPr/>
        </p:nvPicPr>
        <p:blipFill>
          <a:blip r:embed="rId2"/>
          <a:stretch/>
        </p:blipFill>
        <p:spPr>
          <a:xfrm>
            <a:off x="6516720" y="2349360"/>
            <a:ext cx="1116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flicting data management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 confidenti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 sh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5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5076720" y="2492280"/>
            <a:ext cx="2664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ownership and cons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nt consent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use – consent should be gained for all potential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nershi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yrigh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ISC copyright guidance </a:t>
            </a:r>
            <a:r>
              <a:rPr b="0" lang="en-GB" sz="2000" spc="-1" strike="noStrike" u="sng">
                <a:solidFill>
                  <a:srgbClr val="0f6fc6"/>
                </a:solidFill>
                <a:uFillTx/>
                <a:latin typeface="Calibri"/>
              </a:rPr>
              <a:t>www.jisc.ac.uk/news/stories/2011/04/IPRmodule.aspx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dentiality and data shar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920" y="160020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nym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nardisation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computescotland.com/scottish-leukemia-request-sets-freedom-of-information-against-data-protection-1031.ph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dom of Information Act </a:t>
            </a:r>
            <a:r>
              <a:rPr b="0" lang="en-US" sz="2400" spc="-1" strike="noStrike" u="sng">
                <a:solidFill>
                  <a:srgbClr val="0f6fc6"/>
                </a:solidFill>
                <a:uFillTx/>
                <a:latin typeface="Calibri"/>
              </a:rPr>
              <a:t>www.ico.gov.uk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3" descr="anonymity21.bmp"/>
          <p:cNvPicPr/>
          <p:nvPr/>
        </p:nvPicPr>
        <p:blipFill>
          <a:blip r:embed="rId1"/>
          <a:stretch/>
        </p:blipFill>
        <p:spPr>
          <a:xfrm>
            <a:off x="5867280" y="2492280"/>
            <a:ext cx="1952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 Trig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Protection Act, 199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Commissioner’s Office </a:t>
            </a:r>
            <a:r>
              <a:rPr b="0" lang="en-US" sz="2800" spc="-1" strike="noStrike" u="sng">
                <a:solidFill>
                  <a:srgbClr val="0f6fc6"/>
                </a:solidFill>
                <a:uFillTx/>
                <a:latin typeface="Calibri"/>
              </a:rPr>
              <a:t>www.ico.gov.uk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Picture 3" descr="ico_logo.gif"/>
          <p:cNvPicPr/>
          <p:nvPr/>
        </p:nvPicPr>
        <p:blipFill>
          <a:blip r:embed="rId1"/>
          <a:stretch/>
        </p:blipFill>
        <p:spPr>
          <a:xfrm>
            <a:off x="5508720" y="4005360"/>
            <a:ext cx="33242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2:47:56Z</dcterms:created>
  <dc:creator>DATUM for Health Project Team</dc:creator>
  <dc:description/>
  <dc:language>en-US</dc:language>
  <cp:lastModifiedBy>Sue Childs</cp:lastModifiedBy>
  <dcterms:modified xsi:type="dcterms:W3CDTF">2011-09-05T11:53:17Z</dcterms:modified>
  <cp:revision>418</cp:revision>
  <dc:subject/>
  <dc:title>Session 3: Problems and Practical Strategies and Solutions</dc:title>
</cp:coreProperties>
</file>